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C7C-2061-4C30-90DD-068E460B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144-E808-4C24-8C39-B06DA805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9C8-9DB5-402A-93A0-AC6C42CC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684-3E96-433F-9BE2-BC6A4EEC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276-AAF0-4B48-B2F8-2842CE24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E36-76C6-4DA6-BF28-117C857B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D80-924C-4580-AC3E-EDE2DBA5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04C-BE48-4744-823A-5CA9F2CD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CFE-55A5-4419-A239-5C77B189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617-F287-4232-97FD-048E7161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523-26C0-48D6-8141-33D0C81C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D66-D8BD-4B8A-AF9A-CDC50457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D682-4182-4DD3-A03E-A25D4685B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1000" y="914040"/>
            <a:ext cx="76453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Practical Universal Computers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5257440"/>
            <a:ext cx="47750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. Bienvenido Vel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8200" y="45720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cture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727280" cy="110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7360" y="259092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089240" y="3143160"/>
            <a:ext cx="1149480" cy="97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3124080" y="3714840"/>
            <a:ext cx="96516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3581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2004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89548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581280"/>
            <a:ext cx="81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0D6-B72C-4DC9-B8A4-638A188ADFF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86920"/>
            <a:ext cx="77850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Definition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Instruction Set Architecture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t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ers view of the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ble registers, instruction set, execution model, memory model, I/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he processors if bu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or’s intern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255-D721-444D-AB87-A20DF2A149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11000" y="342720"/>
            <a:ext cx="78483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Maiandra GD"/>
              </a:rPr>
              <a:t>A Simple Accumulator Processor 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Instruction Set Architecture (ISA) 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196" name=""/>
          <p:cNvSpPr/>
          <p:nvPr/>
        </p:nvSpPr>
        <p:spPr>
          <a:xfrm>
            <a:off x="281880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ion Format (16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600200" y="2895480"/>
            <a:ext cx="6045120" cy="666720"/>
            <a:chOff x="1600200" y="2895480"/>
            <a:chExt cx="6045120" cy="666720"/>
          </a:xfrm>
        </p:grpSpPr>
        <p:grpSp>
          <p:nvGrpSpPr>
            <p:cNvPr id="198" name=""/>
            <p:cNvGrpSpPr/>
            <p:nvPr/>
          </p:nvGrpSpPr>
          <p:grpSpPr>
            <a:xfrm>
              <a:off x="1600200" y="3162240"/>
              <a:ext cx="5994000" cy="399960"/>
              <a:chOff x="1600200" y="3162240"/>
              <a:chExt cx="5994000" cy="399960"/>
            </a:xfrm>
          </p:grpSpPr>
          <p:sp>
            <p:nvSpPr>
              <p:cNvPr id="199" name=""/>
              <p:cNvSpPr/>
              <p:nvPr/>
            </p:nvSpPr>
            <p:spPr>
              <a:xfrm>
                <a:off x="1600200" y="3162240"/>
                <a:ext cx="5994000" cy="399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600200" y="3162240"/>
                <a:ext cx="507960" cy="399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108160" y="3162240"/>
                <a:ext cx="1523520" cy="399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pco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32040" y="3162240"/>
                <a:ext cx="3961800" cy="399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7342560" y="28954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8640" y="28954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04080" y="2895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08800" y="2895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27920" y="2895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09480" y="3772080"/>
            <a:ext cx="1727280" cy="304560"/>
          </a:xfrm>
          <a:prstGeom prst="wedgeRectCallout">
            <a:avLst>
              <a:gd name="adj1" fmla="val 23254"/>
              <a:gd name="adj2" fmla="val -120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= Indirect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AFB-A1D7-46DC-8F08-47B9886B252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838080" y="2590920"/>
          <a:ext cx="7619760" cy="3120840"/>
        </p:xfrm>
        <a:graphic>
          <a:graphicData uri="http://schemas.openxmlformats.org/drawingml/2006/table">
            <a:tbl>
              <a:tblPr/>
              <a:tblGrid>
                <a:gridCol w="1117440"/>
                <a:gridCol w="1320840"/>
                <a:gridCol w="2235240"/>
                <a:gridCol w="29462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not 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&lt;- not 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AC /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AC /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rN(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&lt; 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⇒ PC ←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&lt; 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⇒ PC ← MEM[X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ump(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MEM[X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tore(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M[X]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M[MEM[X]]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oad(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M[X]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M[MEM[X]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nd(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AC and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AC and MEM[X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dd(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AC +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← AC + MEM[X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1000" y="342720"/>
            <a:ext cx="78483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Maiandra GD"/>
              </a:rPr>
              <a:t>A Simple Accumulator Processor 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Instruction Set Architecture (ISA) 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211" name=""/>
          <p:cNvSpPr/>
          <p:nvPr/>
        </p:nvSpPr>
        <p:spPr>
          <a:xfrm>
            <a:off x="3353760" y="19810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ion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79880" y="579132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sy all right … but universal it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73C-B852-401B-88E7-0E85E6587A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3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000"/>
            </a:b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Memory Model</a:t>
            </a:r>
            <a:endParaRPr b="1" lang="en-US" sz="3600" spc="-1" strike="noStrike">
              <a:solidFill>
                <a:srgbClr val="ff0000"/>
              </a:solidFill>
              <a:latin typeface="Maiandra G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766960" y="2347920"/>
          <a:ext cx="3047760" cy="3031920"/>
        </p:xfrm>
        <a:graphic>
          <a:graphicData uri="http://schemas.openxmlformats.org/drawingml/2006/table">
            <a:tbl>
              <a:tblPr/>
              <a:tblGrid>
                <a:gridCol w="627120"/>
                <a:gridCol w="2420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DD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B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JUM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4600440" y="2031840"/>
            <a:ext cx="0" cy="2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05240" y="2031840"/>
            <a:ext cx="0" cy="2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49520" y="216684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29520" y="19987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99000" y="2335320"/>
            <a:ext cx="0" cy="30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02480" y="2031840"/>
            <a:ext cx="0" cy="2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02320" y="216684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2320" y="19987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CF2-D635-45ED-B932-9C26B8DC61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560" y="409680"/>
            <a:ext cx="783288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A Simple 16-bit Accumulator Processor</a:t>
            </a:r>
            <a:r>
              <a:rPr b="1" lang="en-US" sz="3200" spc="-1" strike="noStrike">
                <a:solidFill>
                  <a:srgbClr val="ff0000"/>
                </a:solidFill>
                <a:latin typeface="Maiandra GD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Instruction Set Architecture (ISA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11360" y="285732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or (AC)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nd to many instructions. No need to use instruction bits to specify one of the operands. More bits left for address and opc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simpl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sy I is univer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(given enough memory). Can you see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 bit specifies level of indirection for the location of the operand. I = 0: operand in X field (immediate). I=1 operand in memory location X (indirec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6560" y="2133720"/>
            <a:ext cx="71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Immediate Observations on the Easy I 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459-43AD-4F6E-9796-05EB54D9BD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Programming the Easy I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96600" y="1671120"/>
            <a:ext cx="79246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the sum of the even numbers between 1 an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79440" y="2995560"/>
            <a:ext cx="61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305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33600" y="3902040"/>
            <a:ext cx="62132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a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count=2; count &lt;= N; count += 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a += 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48080" y="326700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gh Level Languag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0ED-3863-4290-BE8E-D645FE7EF6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Programming the Easy I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09200" y="1341000"/>
            <a:ext cx="79246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the sum of the even numbers between 1 an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98480" y="3973680"/>
            <a:ext cx="615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27160" y="305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1280" y="353376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sy I Assemb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nguag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26160" y="3060720"/>
            <a:ext cx="2057400" cy="2743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61000" y="2214720"/>
            <a:ext cx="2079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I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te address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26160" y="3060720"/>
            <a:ext cx="205740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6160" y="3322800"/>
            <a:ext cx="205740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26160" y="3559320"/>
            <a:ext cx="2057400" cy="253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26160" y="3809880"/>
            <a:ext cx="2057400" cy="2541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6160" y="4071960"/>
            <a:ext cx="2057400" cy="253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26160" y="4321080"/>
            <a:ext cx="2057400" cy="2541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26160" y="4572000"/>
            <a:ext cx="2057400" cy="254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26160" y="4826160"/>
            <a:ext cx="2057400" cy="253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26160" y="5079960"/>
            <a:ext cx="2057400" cy="254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26160" y="5334120"/>
            <a:ext cx="2057400" cy="253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26160" y="5587920"/>
            <a:ext cx="2057400" cy="254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2400" y="529920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73560" y="5603760"/>
            <a:ext cx="5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05520" y="5299200"/>
            <a:ext cx="6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05520" y="555300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59520" y="3060720"/>
            <a:ext cx="1216080" cy="584280"/>
          </a:xfrm>
          <a:prstGeom prst="wedgeEllipseCallout">
            <a:avLst>
              <a:gd name="adj1" fmla="val -121800"/>
              <a:gd name="adj2" fmla="val 61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85080" y="4483080"/>
            <a:ext cx="1216080" cy="584280"/>
          </a:xfrm>
          <a:prstGeom prst="wedgeEllipseCallout">
            <a:avLst>
              <a:gd name="adj1" fmla="val -99870"/>
              <a:gd name="adj2" fmla="val 113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2400" y="352260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2400" y="379872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45320" y="3075120"/>
            <a:ext cx="0" cy="27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C75-3236-4BEE-9978-BB2EA8D34AA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Programming the Easy I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969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the sum of the even numbers between 1 an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9880" y="388476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lackboar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DA3-3FB7-4ACA-BA57-B39D4DE7CA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7840" y="290520"/>
            <a:ext cx="8154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Compute the sum of even numbers from 2 to N</a:t>
            </a:r>
            <a:endParaRPr b="1" lang="en-US" sz="28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263" name=""/>
          <p:cNvSpPr/>
          <p:nvPr/>
        </p:nvSpPr>
        <p:spPr>
          <a:xfrm>
            <a:off x="1698480" y="3973680"/>
            <a:ext cx="615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27160" y="305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22120" y="831960"/>
            <a:ext cx="68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sy I Assembly Language &amp; Machine Code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55680" y="1384200"/>
          <a:ext cx="8343720" cy="4641840"/>
        </p:xfrm>
        <a:graphic>
          <a:graphicData uri="http://schemas.openxmlformats.org/drawingml/2006/table">
            <a:tbl>
              <a:tblPr/>
              <a:tblGrid>
                <a:gridCol w="1206360"/>
                <a:gridCol w="2705040"/>
                <a:gridCol w="2654280"/>
                <a:gridCol w="1778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struction 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ssembly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chin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bina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i   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110  000000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i  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100  100000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i   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 =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111  0000000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i  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100  1000000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:   LOADi   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(count=2;count&lt;=N;count+=2)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101  1000000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000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dddddddd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i   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add 2’s comp of count +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111  0000000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    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N assumed in MEM[516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00111  1000000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Ni   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010  0010000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i   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101  100000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     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 += coun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00111  1000000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i  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100  1000000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i   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101  1000000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i   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111  0000000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i  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100  1000000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UMPi  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 00011  0001101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5848560" y="6230880"/>
            <a:ext cx="1933200" cy="24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dddddddddd = Don’t C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AE9-075B-414E-A6BE-5837C5373F0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8153280" y="1981080"/>
            <a:ext cx="304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Data Paths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270" name=""/>
          <p:cNvSpPr/>
          <p:nvPr/>
        </p:nvSpPr>
        <p:spPr>
          <a:xfrm>
            <a:off x="1712520" y="5257800"/>
            <a:ext cx="59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ically, designing a processor is an iter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ka trial end error)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1981080"/>
            <a:ext cx="406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17524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43640" y="14097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2152800"/>
            <a:ext cx="0" cy="29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581280" y="3181320"/>
            <a:ext cx="2438280" cy="552240"/>
            <a:chOff x="3581280" y="3181320"/>
            <a:chExt cx="2438280" cy="552240"/>
          </a:xfrm>
        </p:grpSpPr>
        <p:sp>
          <p:nvSpPr>
            <p:cNvPr id="276" name=""/>
            <p:cNvSpPr/>
            <p:nvPr/>
          </p:nvSpPr>
          <p:spPr>
            <a:xfrm>
              <a:off x="3581280" y="3181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05160" y="3181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5840" y="3733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00240" y="3733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1280" y="3181320"/>
              <a:ext cx="30456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714640" y="3181320"/>
              <a:ext cx="30456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181320"/>
              <a:ext cx="30456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800240" y="3181320"/>
              <a:ext cx="30456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887640" y="312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09640" y="3124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4673160" y="3555720"/>
            <a:ext cx="304560" cy="11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26360" y="1981080"/>
            <a:ext cx="406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7120" y="335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53280" y="2095560"/>
            <a:ext cx="0" cy="29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2133720"/>
            <a:ext cx="30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2895480"/>
            <a:ext cx="406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6" idx="3"/>
            <a:endCxn id="285" idx="0"/>
          </p:cNvCxnSpPr>
          <p:nvPr/>
        </p:nvCxnSpPr>
        <p:spPr>
          <a:xfrm flipH="1" flipV="1" rot="5400000">
            <a:off x="4575600" y="3372120"/>
            <a:ext cx="1142280" cy="645120"/>
          </a:xfrm>
          <a:prstGeom prst="bentConnector5">
            <a:avLst>
              <a:gd name="adj1" fmla="val -20145"/>
              <a:gd name="adj2" fmla="val 206141"/>
              <a:gd name="adj3" fmla="val 1200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987720" y="175248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329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95588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6" idx="3"/>
          </p:cNvCxnSpPr>
          <p:nvPr/>
        </p:nvCxnSpPr>
        <p:spPr>
          <a:xfrm rot="5400000">
            <a:off x="2944080" y="2540160"/>
            <a:ext cx="154800" cy="3605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7" idx="3"/>
            <a:endCxn id="271" idx="1"/>
          </p:cNvCxnSpPr>
          <p:nvPr/>
        </p:nvCxnSpPr>
        <p:spPr>
          <a:xfrm>
            <a:off x="6832080" y="2437920"/>
            <a:ext cx="40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"/>
          <p:cNvSpPr/>
          <p:nvPr/>
        </p:nvSpPr>
        <p:spPr>
          <a:xfrm>
            <a:off x="66294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22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45320" y="232416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774880" y="43243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23120" y="442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835000" y="165564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83600" y="1758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036440" y="354636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4680" y="3649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A4A-DA72-4671-A51F-501BC2D0795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Maiandra GD"/>
              </a:rPr>
              <a:t>Outline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65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on Neuman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Ide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d program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ing a simple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Set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538-E8B0-490C-B93F-6174E2B635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Processor Design Process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533840"/>
            <a:ext cx="1523880" cy="304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86280" y="1943280"/>
            <a:ext cx="213336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Dat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86280" y="2781360"/>
            <a:ext cx="213336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c-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86280" y="3581280"/>
            <a:ext cx="2133360" cy="495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90840" y="4267080"/>
            <a:ext cx="1447920" cy="838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90840" y="1409760"/>
            <a:ext cx="1524240" cy="304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6" idx="1"/>
            <a:endCxn id="311" idx="1"/>
          </p:cNvCxnSpPr>
          <p:nvPr/>
        </p:nvCxnSpPr>
        <p:spPr>
          <a:xfrm rot="10800000">
            <a:off x="3085560" y="3085560"/>
            <a:ext cx="38520" cy="2591280"/>
          </a:xfrm>
          <a:prstGeom prst="bentConnector3">
            <a:avLst>
              <a:gd name="adj1" fmla="val 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14" idx="2"/>
            <a:endCxn id="310" idx="0"/>
          </p:cNvCxnSpPr>
          <p:nvPr/>
        </p:nvCxnSpPr>
        <p:spPr>
          <a:xfrm>
            <a:off x="4152600" y="1714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0" idx="2"/>
            <a:endCxn id="311" idx="0"/>
          </p:cNvCxnSpPr>
          <p:nvPr/>
        </p:nvCxnSpPr>
        <p:spPr>
          <a:xfrm>
            <a:off x="4152600" y="25524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1" idx="2"/>
            <a:endCxn id="312" idx="0"/>
          </p:cNvCxnSpPr>
          <p:nvPr/>
        </p:nvCxnSpPr>
        <p:spPr>
          <a:xfrm>
            <a:off x="4152600" y="339048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2"/>
            <a:endCxn id="313" idx="0"/>
          </p:cNvCxnSpPr>
          <p:nvPr/>
        </p:nvCxnSpPr>
        <p:spPr>
          <a:xfrm flipH="1">
            <a:off x="4114440" y="4076280"/>
            <a:ext cx="388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3" idx="3"/>
            <a:endCxn id="309" idx="1"/>
          </p:cNvCxnSpPr>
          <p:nvPr/>
        </p:nvCxnSpPr>
        <p:spPr>
          <a:xfrm>
            <a:off x="4838400" y="46861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4878360" y="4305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5440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24080" y="5334120"/>
            <a:ext cx="2057400" cy="6858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13" idx="2"/>
            <a:endCxn id="316" idx="0"/>
          </p:cNvCxnSpPr>
          <p:nvPr/>
        </p:nvCxnSpPr>
        <p:spPr>
          <a:xfrm>
            <a:off x="4114800" y="5105160"/>
            <a:ext cx="38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A67-D551-43A9-A834-086A14D18E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Memory Interface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2362320"/>
            <a:ext cx="213336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2286000"/>
            <a:ext cx="213336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1280" y="2743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41360" y="24382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81280" y="3505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5400" y="31240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41148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65760" y="38098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mory o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R,W,NOP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794040" y="2125800"/>
            <a:ext cx="3080520" cy="3933720"/>
            <a:chOff x="3794040" y="2125800"/>
            <a:chExt cx="3080520" cy="3933720"/>
          </a:xfrm>
        </p:grpSpPr>
        <p:sp>
          <p:nvSpPr>
            <p:cNvPr id="335" name=""/>
            <p:cNvSpPr/>
            <p:nvPr/>
          </p:nvSpPr>
          <p:spPr>
            <a:xfrm>
              <a:off x="3794040" y="2125800"/>
              <a:ext cx="1594080" cy="2792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42280" y="5234040"/>
              <a:ext cx="1232280" cy="825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6" idx="1"/>
              <a:endCxn id="335" idx="4"/>
            </p:cNvCxnSpPr>
            <p:nvPr/>
          </p:nvCxnSpPr>
          <p:spPr>
            <a:xfrm flipH="1" flipV="1">
              <a:off x="4590720" y="4932360"/>
              <a:ext cx="1023120" cy="727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9F7-DC30-4247-8FD1-E80BA73A32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Control Unit</a:t>
            </a:r>
            <a:br>
              <a:rPr sz="44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(Level 0 Flowcharts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2495520"/>
            <a:ext cx="203184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3495600"/>
            <a:ext cx="203184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4495680"/>
            <a:ext cx="203184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9" idx="2"/>
            <a:endCxn id="340" idx="0"/>
          </p:cNvCxnSpPr>
          <p:nvPr/>
        </p:nvCxnSpPr>
        <p:spPr>
          <a:xfrm>
            <a:off x="2844360" y="3124080"/>
            <a:ext cx="108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40" idx="2"/>
            <a:endCxn id="341" idx="0"/>
          </p:cNvCxnSpPr>
          <p:nvPr/>
        </p:nvCxnSpPr>
        <p:spPr>
          <a:xfrm>
            <a:off x="2844360" y="4124160"/>
            <a:ext cx="108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41" idx="2"/>
            <a:endCxn id="339" idx="1"/>
          </p:cNvCxnSpPr>
          <p:nvPr/>
        </p:nvCxnSpPr>
        <p:spPr>
          <a:xfrm flipV="1" rot="16200000">
            <a:off x="1179000" y="3458520"/>
            <a:ext cx="2315520" cy="1016640"/>
          </a:xfrm>
          <a:prstGeom prst="bentConnector4">
            <a:avLst>
              <a:gd name="adj1" fmla="val -9874"/>
              <a:gd name="adj2" fmla="val 122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4226760" y="255600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next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87520" y="3505320"/>
            <a:ext cx="41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what it do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to do it. Fetch oper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30000" y="45720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87720" y="563868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 will ignore indirect bit (assuming I = 0) for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4B1-EC3A-4A89-A9D7-37E73425B81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Control Unit</a:t>
            </a:r>
            <a:br>
              <a:rPr sz="36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(Level 1 Flowcharts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350" name=""/>
          <p:cNvSpPr/>
          <p:nvPr/>
        </p:nvSpPr>
        <p:spPr>
          <a:xfrm>
            <a:off x="3774960" y="2624040"/>
            <a:ext cx="2032200" cy="40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30400" y="4551480"/>
            <a:ext cx="101592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o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0360" y="4551480"/>
            <a:ext cx="101628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28880" y="4551480"/>
            <a:ext cx="101628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30640" y="4551480"/>
            <a:ext cx="101628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32720" y="4551480"/>
            <a:ext cx="101592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30960" y="4551480"/>
            <a:ext cx="101592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79640" y="5165640"/>
            <a:ext cx="751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38360" y="49942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59200" y="49942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80040" y="49942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99000" y="49942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21360" y="49942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40680" y="49942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79640" y="4365720"/>
            <a:ext cx="751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87600" y="4365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08440" y="4365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29280" y="4365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48240" y="4365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70600" y="4365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89920" y="4365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40280" y="516564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6480" y="571500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vel 1: Each box may take severa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PU cyc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to 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74960" y="2013120"/>
            <a:ext cx="203220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00800" y="5257800"/>
            <a:ext cx="1143000" cy="533520"/>
          </a:xfrm>
          <a:prstGeom prst="wedgeRoundRectCallout">
            <a:avLst>
              <a:gd name="adj1" fmla="val -91250"/>
              <a:gd name="adj2" fmla="val 5000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74960" y="3629160"/>
            <a:ext cx="203220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etch 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3341520"/>
            <a:ext cx="340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/>
          <p:nvPr/>
        </p:nvCxnSpPr>
        <p:spPr>
          <a:xfrm flipH="1">
            <a:off x="2985480" y="3354120"/>
            <a:ext cx="5400" cy="90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4791240" y="24098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91240" y="3029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91240" y="33433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91240" y="4048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71" idx="0"/>
            <a:endCxn id="350" idx="1"/>
          </p:cNvCxnSpPr>
          <p:nvPr/>
        </p:nvCxnSpPr>
        <p:spPr>
          <a:xfrm flipV="1" rot="16200000">
            <a:off x="2986560" y="3611520"/>
            <a:ext cx="2741760" cy="1166040"/>
          </a:xfrm>
          <a:prstGeom prst="bentConnector4">
            <a:avLst>
              <a:gd name="adj1" fmla="val -1037"/>
              <a:gd name="adj2" fmla="val 366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761-51D0-45E3-A904-3572FD631D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What makes a CPU cycle?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384" name=""/>
          <p:cNvSpPr/>
          <p:nvPr/>
        </p:nvSpPr>
        <p:spPr>
          <a:xfrm>
            <a:off x="3733920" y="2133720"/>
            <a:ext cx="18288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M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3390840"/>
            <a:ext cx="2133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3597840" y="3602880"/>
            <a:ext cx="152640" cy="185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76680" y="4114800"/>
            <a:ext cx="19429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, latches,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84" idx="0"/>
            <a:endCxn id="387" idx="4"/>
          </p:cNvCxnSpPr>
          <p:nvPr/>
        </p:nvCxnSpPr>
        <p:spPr>
          <a:xfrm flipH="1" rot="16200000">
            <a:off x="3048840" y="3732840"/>
            <a:ext cx="3201120" cy="2160"/>
          </a:xfrm>
          <a:prstGeom prst="curvedConnector5">
            <a:avLst>
              <a:gd name="adj1" fmla="val -7142"/>
              <a:gd name="adj2" fmla="val 41580000"/>
              <a:gd name="adj3" fmla="val -7142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9" name=""/>
          <p:cNvCxnSpPr>
            <a:stCxn id="384" idx="4"/>
            <a:endCxn id="385" idx="0"/>
          </p:cNvCxnSpPr>
          <p:nvPr/>
        </p:nvCxnSpPr>
        <p:spPr>
          <a:xfrm flipV="1" rot="10800000">
            <a:off x="4647600" y="3047760"/>
            <a:ext cx="1080" cy="343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85" idx="2"/>
            <a:endCxn id="387" idx="0"/>
          </p:cNvCxnSpPr>
          <p:nvPr/>
        </p:nvCxnSpPr>
        <p:spPr>
          <a:xfrm flipV="1" rot="10800000">
            <a:off x="4647600" y="3771720"/>
            <a:ext cx="1080" cy="343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1438200" y="571500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ycle time must accommodate signal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D44-54F3-4709-91BF-6E957422FF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aiandra GD"/>
              </a:rPr>
              <a:t>Easy I – Timing Exampl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Maiandra GD"/>
              </a:rPr>
              <a:t>ALU Operation</a:t>
            </a:r>
            <a:endParaRPr b="1" lang="en-US" sz="4000" spc="-1" strike="noStrike">
              <a:solidFill>
                <a:srgbClr val="ff0000"/>
              </a:solidFill>
              <a:latin typeface="Maiandra GD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19200" y="3182760"/>
            <a:ext cx="1734840" cy="433080"/>
            <a:chOff x="619200" y="3182760"/>
            <a:chExt cx="1734840" cy="433080"/>
          </a:xfrm>
        </p:grpSpPr>
        <p:sp>
          <p:nvSpPr>
            <p:cNvPr id="394" name=""/>
            <p:cNvSpPr/>
            <p:nvPr/>
          </p:nvSpPr>
          <p:spPr>
            <a:xfrm>
              <a:off x="619200" y="3182760"/>
              <a:ext cx="65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03520" y="3182760"/>
              <a:ext cx="65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5920" y="3615840"/>
              <a:ext cx="65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86800" y="3615840"/>
              <a:ext cx="65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9200" y="3182760"/>
              <a:ext cx="21672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137320" y="3182760"/>
              <a:ext cx="21672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69720" y="3182760"/>
              <a:ext cx="2167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486800" y="3182760"/>
              <a:ext cx="2167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8080" y="31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48960" y="3138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400000">
            <a:off x="1411920" y="3529800"/>
            <a:ext cx="237960" cy="7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71520" y="3317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12720" y="36291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9200" y="3317760"/>
            <a:ext cx="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7800" y="32194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1760" y="36734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3" idx="0"/>
          </p:cNvCxnSpPr>
          <p:nvPr/>
        </p:nvCxnSpPr>
        <p:spPr>
          <a:xfrm flipH="1" flipV="1" rot="5400000">
            <a:off x="1290960" y="3376080"/>
            <a:ext cx="908640" cy="432360"/>
          </a:xfrm>
          <a:prstGeom prst="bentConnector5">
            <a:avLst>
              <a:gd name="adj1" fmla="val -19698"/>
              <a:gd name="adj2" fmla="val 223500"/>
              <a:gd name="adj3" fmla="val 119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"/>
          <p:cNvSpPr/>
          <p:nvPr/>
        </p:nvSpPr>
        <p:spPr>
          <a:xfrm>
            <a:off x="550800" y="2617920"/>
            <a:ext cx="760320" cy="2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30240" y="2820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43280" y="2052720"/>
            <a:ext cx="5973840" cy="40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5400" y="2496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0040" y="2679840"/>
            <a:ext cx="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76400" y="3855960"/>
            <a:ext cx="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552240" y="2757600"/>
            <a:ext cx="88920" cy="88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1137960" y="3952800"/>
            <a:ext cx="88920" cy="88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360600" y="2260440"/>
            <a:ext cx="5168880" cy="389160"/>
            <a:chOff x="3360600" y="2260440"/>
            <a:chExt cx="5168880" cy="389160"/>
          </a:xfrm>
        </p:grpSpPr>
        <p:grpSp>
          <p:nvGrpSpPr>
            <p:cNvPr id="420" name=""/>
            <p:cNvGrpSpPr/>
            <p:nvPr/>
          </p:nvGrpSpPr>
          <p:grpSpPr>
            <a:xfrm>
              <a:off x="3360600" y="2260440"/>
              <a:ext cx="1474920" cy="347400"/>
              <a:chOff x="3360600" y="2260440"/>
              <a:chExt cx="1474920" cy="347400"/>
            </a:xfrm>
          </p:grpSpPr>
          <p:sp>
            <p:nvSpPr>
              <p:cNvPr id="421" name=""/>
              <p:cNvSpPr/>
              <p:nvPr/>
            </p:nvSpPr>
            <p:spPr>
              <a:xfrm>
                <a:off x="3360600" y="260676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089240" y="226044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06880" y="226368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4835520" y="226188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4835520" y="2276280"/>
              <a:ext cx="1474920" cy="347400"/>
              <a:chOff x="4835520" y="2276280"/>
              <a:chExt cx="1474920" cy="347400"/>
            </a:xfrm>
          </p:grpSpPr>
          <p:sp>
            <p:nvSpPr>
              <p:cNvPr id="426" name=""/>
              <p:cNvSpPr/>
              <p:nvPr/>
            </p:nvSpPr>
            <p:spPr>
              <a:xfrm>
                <a:off x="4835520" y="262260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5564160" y="227628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1800" y="227952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6310440" y="2278080"/>
                <a:ext cx="0" cy="34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318360" y="2289240"/>
              <a:ext cx="1474560" cy="347400"/>
              <a:chOff x="6318360" y="2289240"/>
              <a:chExt cx="1474560" cy="347400"/>
            </a:xfrm>
          </p:grpSpPr>
          <p:sp>
            <p:nvSpPr>
              <p:cNvPr id="431" name=""/>
              <p:cNvSpPr/>
              <p:nvPr/>
            </p:nvSpPr>
            <p:spPr>
              <a:xfrm>
                <a:off x="6318360" y="2635560"/>
                <a:ext cx="72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7046640" y="228924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064280" y="2292480"/>
                <a:ext cx="72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7792920" y="229068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7800840" y="2303280"/>
              <a:ext cx="728640" cy="346320"/>
              <a:chOff x="7800840" y="2303280"/>
              <a:chExt cx="728640" cy="346320"/>
            </a:xfrm>
          </p:grpSpPr>
          <p:sp>
            <p:nvSpPr>
              <p:cNvPr id="436" name=""/>
              <p:cNvSpPr/>
              <p:nvPr/>
            </p:nvSpPr>
            <p:spPr>
              <a:xfrm>
                <a:off x="7800840" y="264960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8529480" y="230328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8" name=""/>
          <p:cNvSpPr/>
          <p:nvPr/>
        </p:nvSpPr>
        <p:spPr>
          <a:xfrm>
            <a:off x="2811240" y="23511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18440" y="2865600"/>
            <a:ext cx="47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78240" y="3130560"/>
            <a:ext cx="9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70400" y="2784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92720" y="2787480"/>
            <a:ext cx="14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816520" y="27986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29480" y="3147840"/>
            <a:ext cx="26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28520" y="3362400"/>
            <a:ext cx="54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7720" y="3703680"/>
            <a:ext cx="235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5708520" y="3398760"/>
            <a:ext cx="32076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75000" y="3386160"/>
            <a:ext cx="235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5706720" y="3384720"/>
            <a:ext cx="307800" cy="32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31080" y="3719520"/>
            <a:ext cx="235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48360" y="3402000"/>
            <a:ext cx="235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86160" y="4289400"/>
            <a:ext cx="272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119640" y="3984480"/>
            <a:ext cx="32076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403440" y="3960360"/>
            <a:ext cx="26845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6118200" y="3970440"/>
            <a:ext cx="308160" cy="32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29240" y="430524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35720" y="3987720"/>
            <a:ext cx="19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56600" y="397188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21000" y="4913280"/>
            <a:ext cx="275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6080040" y="4578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02360" y="4581360"/>
            <a:ext cx="14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7526160" y="45925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39120" y="4930920"/>
            <a:ext cx="88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60560" y="4637160"/>
            <a:ext cx="54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38360" y="5653080"/>
            <a:ext cx="400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7432560" y="5348160"/>
            <a:ext cx="32076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56000" y="533556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7430760" y="5334120"/>
            <a:ext cx="307800" cy="32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767720" y="566892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773840" y="5351400"/>
            <a:ext cx="70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08800" y="5335560"/>
            <a:ext cx="61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89240" y="2585880"/>
            <a:ext cx="0" cy="3287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64160" y="2585880"/>
            <a:ext cx="0" cy="3287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047000" y="2585880"/>
            <a:ext cx="0" cy="3287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C9D-7496-444A-BB20-28A060E720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Performance Assessment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63760" y="1955880"/>
            <a:ext cx="617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   ~ Instructions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I ~ Clock cycles per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  ~ Cycl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on time = I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P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247760" y="4164120"/>
            <a:ext cx="5302440" cy="1915920"/>
            <a:chOff x="1247760" y="4164120"/>
            <a:chExt cx="5302440" cy="1915920"/>
          </a:xfrm>
        </p:grpSpPr>
        <p:sp>
          <p:nvSpPr>
            <p:cNvPr id="478" name=""/>
            <p:cNvSpPr/>
            <p:nvPr/>
          </p:nvSpPr>
          <p:spPr>
            <a:xfrm>
              <a:off x="1247760" y="4164120"/>
              <a:ext cx="2903400" cy="9270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86320" y="4906800"/>
              <a:ext cx="2063880" cy="1173240"/>
            </a:xfrm>
            <a:prstGeom prst="wedgeRoundRectCallout">
              <a:avLst>
                <a:gd name="adj1" fmla="val -86921"/>
                <a:gd name="adj2" fmla="val -47833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ey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t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A3F-E9F7-45FD-9E7E-56B428B5935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Control Unit</a:t>
            </a:r>
            <a:br>
              <a:rPr sz="36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(Level 2 Flowcharts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481" name=""/>
          <p:cNvSpPr/>
          <p:nvPr/>
        </p:nvSpPr>
        <p:spPr>
          <a:xfrm>
            <a:off x="140652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2520" y="5715000"/>
            <a:ext cx="64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box may take only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one CPU cyc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to 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3200400" y="236232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"/>
          <p:cNvSpPr/>
          <p:nvPr/>
        </p:nvSpPr>
        <p:spPr>
          <a:xfrm>
            <a:off x="5319000" y="198108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e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200400" y="388620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+ 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 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5319000" y="358128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e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98240" y="3049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49440" y="533412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4114800"/>
            <a:ext cx="167652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0" y="3962520"/>
            <a:ext cx="6094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7320" y="3124080"/>
            <a:ext cx="166500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asy I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ddress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an you tell wh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18800" y="4451400"/>
            <a:ext cx="2494080" cy="10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t the beginning of the fetch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O holds address of instruction to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fetched and PC points to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920840" y="5203800"/>
            <a:ext cx="1467000" cy="309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99C-A4D7-4645-A391-390D9DB5CA2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1520" y="27900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Control Unit</a:t>
            </a:r>
            <a:br>
              <a:rPr sz="3600"/>
            </a:br>
            <a:r>
              <a:rPr b="1" lang="en-US" sz="2000" spc="-1" strike="noStrike">
                <a:solidFill>
                  <a:srgbClr val="ff0000"/>
                </a:solidFill>
                <a:latin typeface="Maiandra GD"/>
              </a:rPr>
              <a:t>(Level 3 Flowcharts)</a:t>
            </a:r>
            <a:endParaRPr b="1" lang="en-US" sz="2000" spc="-1" strike="noStrike">
              <a:solidFill>
                <a:srgbClr val="ff0000"/>
              </a:solidFill>
              <a:latin typeface="Maiandra GD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3259080" y="223848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O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E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B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ch on I and op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"/>
          <p:cNvSpPr/>
          <p:nvPr/>
        </p:nvSpPr>
        <p:spPr>
          <a:xfrm>
            <a:off x="5451120" y="193356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98960" y="3049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07000" y="3457440"/>
            <a:ext cx="1440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36600" y="347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72760" y="5859360"/>
            <a:ext cx="64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 must be an input to CU’s sequentia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8200" y="2314440"/>
            <a:ext cx="2494080" cy="10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t the beginning of the fetch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O holds address of instruction to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fetched and PC points to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97360" y="2238480"/>
            <a:ext cx="381240" cy="30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86440" y="2006640"/>
            <a:ext cx="1143000" cy="838080"/>
          </a:xfrm>
          <a:prstGeom prst="wedgeRoundRectCallout">
            <a:avLst>
              <a:gd name="adj1" fmla="val -133055"/>
              <a:gd name="adj2" fmla="val -1893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mory B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35880" y="3835440"/>
            <a:ext cx="0" cy="50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73160" y="383544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4000" y="439272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etc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19200" y="3843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5480" y="492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7040" y="5249880"/>
            <a:ext cx="751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3840" y="4917960"/>
            <a:ext cx="77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11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77920" y="494496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68360" y="5249880"/>
            <a:ext cx="625680" cy="565920"/>
            <a:chOff x="468360" y="5249880"/>
            <a:chExt cx="625680" cy="565920"/>
          </a:xfrm>
        </p:grpSpPr>
        <p:sp>
          <p:nvSpPr>
            <p:cNvPr id="515" name=""/>
            <p:cNvSpPr/>
            <p:nvPr/>
          </p:nvSpPr>
          <p:spPr>
            <a:xfrm>
              <a:off x="765000" y="5249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8360" y="5478480"/>
              <a:ext cx="6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ao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785600" y="5249880"/>
            <a:ext cx="609120" cy="565920"/>
            <a:chOff x="1785600" y="5249880"/>
            <a:chExt cx="609120" cy="565920"/>
          </a:xfrm>
        </p:grpSpPr>
        <p:sp>
          <p:nvSpPr>
            <p:cNvPr id="518" name=""/>
            <p:cNvSpPr/>
            <p:nvPr/>
          </p:nvSpPr>
          <p:spPr>
            <a:xfrm>
              <a:off x="2104920" y="5249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85600" y="54784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so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091680" y="5249880"/>
            <a:ext cx="593640" cy="565920"/>
            <a:chOff x="3091680" y="5249880"/>
            <a:chExt cx="593640" cy="565920"/>
          </a:xfrm>
        </p:grpSpPr>
        <p:sp>
          <p:nvSpPr>
            <p:cNvPr id="521" name=""/>
            <p:cNvSpPr/>
            <p:nvPr/>
          </p:nvSpPr>
          <p:spPr>
            <a:xfrm>
              <a:off x="3358800" y="5249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91680" y="5478480"/>
              <a:ext cx="5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80120" y="5249880"/>
            <a:ext cx="671400" cy="565920"/>
            <a:chOff x="4380120" y="5249880"/>
            <a:chExt cx="671400" cy="565920"/>
          </a:xfrm>
        </p:grpSpPr>
        <p:sp>
          <p:nvSpPr>
            <p:cNvPr id="524" name=""/>
            <p:cNvSpPr/>
            <p:nvPr/>
          </p:nvSpPr>
          <p:spPr>
            <a:xfrm>
              <a:off x="4651200" y="5249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80120" y="547848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740920" y="5249880"/>
            <a:ext cx="514440" cy="565920"/>
            <a:chOff x="5740920" y="5249880"/>
            <a:chExt cx="514440" cy="565920"/>
          </a:xfrm>
        </p:grpSpPr>
        <p:sp>
          <p:nvSpPr>
            <p:cNvPr id="527" name=""/>
            <p:cNvSpPr/>
            <p:nvPr/>
          </p:nvSpPr>
          <p:spPr>
            <a:xfrm>
              <a:off x="5987880" y="5249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40920" y="5478480"/>
              <a:ext cx="5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b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939000" y="5249880"/>
            <a:ext cx="671400" cy="565920"/>
            <a:chOff x="6939000" y="5249880"/>
            <a:chExt cx="671400" cy="565920"/>
          </a:xfrm>
        </p:grpSpPr>
        <p:sp>
          <p:nvSpPr>
            <p:cNvPr id="530" name=""/>
            <p:cNvSpPr/>
            <p:nvPr/>
          </p:nvSpPr>
          <p:spPr>
            <a:xfrm>
              <a:off x="7267680" y="5249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39000" y="547848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ju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676520" y="4944960"/>
            <a:ext cx="77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0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43320" y="49449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59200" y="4944960"/>
            <a:ext cx="77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1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26000" y="49449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10480" y="4944960"/>
            <a:ext cx="77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90000" y="35164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I=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79120" y="3522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I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814-9EC5-4983-8E4C-510E9AD1FE5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Control Unit</a:t>
            </a:r>
            <a:br>
              <a:rPr sz="36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(Level 2 Flowcharts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540" name=""/>
          <p:cNvSpPr/>
          <p:nvPr/>
        </p:nvSpPr>
        <p:spPr>
          <a:xfrm>
            <a:off x="140652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3124080" y="2743200"/>
          <a:ext cx="2819520" cy="151596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BUS → AL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L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+ 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5316480" y="243828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o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622640" y="3808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956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73480" y="464832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5880" y="3657600"/>
            <a:ext cx="152640" cy="609480"/>
          </a:xfrm>
          <a:custGeom>
            <a:avLst/>
            <a:gdLst>
              <a:gd name="textAreaLeft" fmla="*/ 0 w 152640"/>
              <a:gd name="textAreaRight" fmla="*/ 5508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33480" y="3657600"/>
            <a:ext cx="12567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estore 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nvar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720-43AD-499B-9171-08891E67749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The (John) Von Neumann Architecture</a:t>
            </a:r>
            <a:br>
              <a:rPr sz="28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(late 40’s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55" name=""/>
          <p:cNvSpPr/>
          <p:nvPr/>
        </p:nvSpPr>
        <p:spPr>
          <a:xfrm>
            <a:off x="2832120" y="1797120"/>
            <a:ext cx="182880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81360" y="3063960"/>
            <a:ext cx="1930320" cy="112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(CP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32120" y="4826160"/>
            <a:ext cx="182880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544840"/>
            <a:ext cx="711360" cy="3999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90840" y="4307040"/>
            <a:ext cx="711360" cy="3999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16600" y="17017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commun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outsid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13000" y="322596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s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14080" y="444492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gram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87720" y="5638680"/>
            <a:ext cx="66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fter 60 years … most processors still look like th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5520" y="2114640"/>
            <a:ext cx="2120760" cy="29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B0A-72AD-48F2-B70B-A9F5484530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Control Unit</a:t>
            </a:r>
            <a:br>
              <a:rPr sz="36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(Level 2 Flowcharts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549" name=""/>
          <p:cNvSpPr/>
          <p:nvPr/>
        </p:nvSpPr>
        <p:spPr>
          <a:xfrm>
            <a:off x="140652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124080" y="274320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L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+ 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"/>
          <p:cNvSpPr/>
          <p:nvPr/>
        </p:nvSpPr>
        <p:spPr>
          <a:xfrm>
            <a:off x="5395320" y="24382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o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98600" y="3049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956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73480" y="426708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916-3DD1-4800-85A8-DFFB7B059AD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3200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Control Unit</a:t>
            </a:r>
            <a:br>
              <a:rPr sz="36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(Level 2 Flowcharts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556" name=""/>
          <p:cNvSpPr/>
          <p:nvPr/>
        </p:nvSpPr>
        <p:spPr>
          <a:xfrm>
            <a:off x="140652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809880" y="99072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&lt;0:9&gt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BUS → 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5928480" y="6094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oad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3809880" y="403848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BUS → AL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+ 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>
            <a:off x="5928480" y="2209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oa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578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97160" y="3049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81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59280" y="556272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3809880" y="251460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O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E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B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2848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oad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48520" y="2514600"/>
            <a:ext cx="3808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05760" y="1611360"/>
            <a:ext cx="1365120" cy="1704960"/>
          </a:xfrm>
          <a:prstGeom prst="wedgeRoundRectCallout">
            <a:avLst>
              <a:gd name="adj1" fmla="val -152791"/>
              <a:gd name="adj2" fmla="val -75791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 add path from DI to A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FD2-3AD0-41A9-937E-941FAE4742D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3200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Control Unit</a:t>
            </a:r>
            <a:br>
              <a:rPr sz="36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(Level 2 Flowcharts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571" name=""/>
          <p:cNvSpPr/>
          <p:nvPr/>
        </p:nvSpPr>
        <p:spPr>
          <a:xfrm>
            <a:off x="140652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3886200" y="175248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&lt;0:9&gt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BUS → 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6000840" y="13716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or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00840" y="29718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or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4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96800" y="3049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935240" y="487692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886200" y="327672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E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O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E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+ 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>
            <a:off x="52578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126-72B4-45B5-A19A-94D2A5892EA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3200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Control Unit</a:t>
            </a:r>
            <a:br>
              <a:rPr sz="36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(Level 2 Flowcharts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581" name=""/>
          <p:cNvSpPr/>
          <p:nvPr/>
        </p:nvSpPr>
        <p:spPr>
          <a:xfrm>
            <a:off x="140652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3809880" y="99072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+ 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"/>
          <p:cNvSpPr/>
          <p:nvPr/>
        </p:nvSpPr>
        <p:spPr>
          <a:xfrm>
            <a:off x="5923800" y="6094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r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85520" y="33526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r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5780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698240" y="304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8168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59480" y="419112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219320" y="3733920"/>
          <a:ext cx="2819160" cy="1212840"/>
        </p:xfrm>
        <a:graphic>
          <a:graphicData uri="http://schemas.openxmlformats.org/drawingml/2006/table">
            <a:tbl>
              <a:tblPr/>
              <a:tblGrid>
                <a:gridCol w="243828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&lt;0:9&gt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ABU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&lt;0:9&gt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 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+ 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"/>
          <p:cNvSpPr/>
          <p:nvPr/>
        </p:nvSpPr>
        <p:spPr>
          <a:xfrm>
            <a:off x="26668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312408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69280" y="2743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: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10040" y="28195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(AC&lt;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48880" y="2895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(AC&gt;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4343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1800" y="5791320"/>
            <a:ext cx="61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t 15 of AC input to the CU’s sequentia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05720" y="9907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013520" y="1219320"/>
            <a:ext cx="162540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ssume branch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aken. Allow AC: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o propag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19720" y="4572000"/>
            <a:ext cx="1295280" cy="1066680"/>
          </a:xfrm>
          <a:prstGeom prst="wedgeRoundRectCallout">
            <a:avLst>
              <a:gd name="adj1" fmla="val -80513"/>
              <a:gd name="adj2" fmla="val -54166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an we accomplish all this in 1 cycle? H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19F-78FB-46AC-9647-773BFFA51CA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73200" y="3679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Inside the Easy-I PC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38480" y="4190400"/>
            <a:ext cx="762120" cy="229320"/>
            <a:chOff x="4038480" y="4190400"/>
            <a:chExt cx="762120" cy="229320"/>
          </a:xfrm>
        </p:grpSpPr>
        <p:sp>
          <p:nvSpPr>
            <p:cNvPr id="602" name=""/>
            <p:cNvSpPr/>
            <p:nvPr/>
          </p:nvSpPr>
          <p:spPr>
            <a:xfrm flipV="1">
              <a:off x="4038480" y="4190760"/>
              <a:ext cx="762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34960" y="441972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20080" y="441972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39200" y="4191120"/>
              <a:ext cx="95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4705200" y="4190400"/>
              <a:ext cx="95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962520" y="2513880"/>
            <a:ext cx="761760" cy="229320"/>
            <a:chOff x="3962520" y="2513880"/>
            <a:chExt cx="761760" cy="229320"/>
          </a:xfrm>
        </p:grpSpPr>
        <p:sp>
          <p:nvSpPr>
            <p:cNvPr id="608" name=""/>
            <p:cNvSpPr/>
            <p:nvPr/>
          </p:nvSpPr>
          <p:spPr>
            <a:xfrm flipV="1">
              <a:off x="3962520" y="2514240"/>
              <a:ext cx="761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59000" y="274320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44480" y="274320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64320" y="2514600"/>
              <a:ext cx="94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629600" y="2513880"/>
              <a:ext cx="94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4038480" y="3200400"/>
            <a:ext cx="685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25680" y="200664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76640" y="16257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86200" y="4724280"/>
            <a:ext cx="1066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419720" y="2362320"/>
            <a:ext cx="914400" cy="3276360"/>
          </a:xfrm>
          <a:custGeom>
            <a:avLst/>
            <a:gdLst/>
            <a:ahLst/>
            <a:rect l="l" t="t" r="r" b="b"/>
            <a:pathLst>
              <a:path w="528" h="2064">
                <a:moveTo>
                  <a:pt x="48" y="1728"/>
                </a:moveTo>
                <a:lnTo>
                  <a:pt x="48" y="2064"/>
                </a:lnTo>
                <a:lnTo>
                  <a:pt x="528" y="2064"/>
                </a:lnTo>
                <a:lnTo>
                  <a:pt x="528" y="0"/>
                </a:ln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72000" y="39625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0"/>
                </a:moveTo>
                <a:lnTo>
                  <a:pt x="0" y="0"/>
                </a:lnTo>
                <a:lnTo>
                  <a:pt x="0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197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295960" y="3924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416120" y="441972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419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29000" y="2006640"/>
            <a:ext cx="685800" cy="2184480"/>
          </a:xfrm>
          <a:custGeom>
            <a:avLst/>
            <a:gdLst/>
            <a:ahLst/>
            <a:rect l="l" t="t" r="r" b="b"/>
            <a:pathLst>
              <a:path w="432" h="1248">
                <a:moveTo>
                  <a:pt x="0" y="0"/>
                </a:moveTo>
                <a:lnTo>
                  <a:pt x="0" y="1104"/>
                </a:lnTo>
                <a:lnTo>
                  <a:pt x="432" y="1104"/>
                </a:lnTo>
                <a:lnTo>
                  <a:pt x="432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33920" y="3429000"/>
            <a:ext cx="533160" cy="76212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0"/>
                </a:moveTo>
                <a:lnTo>
                  <a:pt x="0" y="288"/>
                </a:lnTo>
                <a:lnTo>
                  <a:pt x="336" y="288"/>
                </a:lnTo>
                <a:lnTo>
                  <a:pt x="336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30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76760" y="4191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Unicode MS"/>
              </a:rPr>
              <a:t>pc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90920" y="4343400"/>
            <a:ext cx="149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054160" y="24382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Unicode MS"/>
              </a:rPr>
              <a:t>pc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90920" y="2590920"/>
            <a:ext cx="14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95360" y="3429000"/>
            <a:ext cx="26586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C capable of loading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ncreme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2286000"/>
            <a:ext cx="3048120" cy="3657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90840" y="2324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29000" y="23623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864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57880" y="558792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10040" y="4143240"/>
            <a:ext cx="27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48280" y="4145040"/>
            <a:ext cx="27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86160" y="4145040"/>
            <a:ext cx="27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38800" y="4145040"/>
            <a:ext cx="27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091040" y="2475000"/>
            <a:ext cx="217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309920" y="2470320"/>
            <a:ext cx="217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21600" y="2225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5400000">
            <a:off x="3906000" y="4921920"/>
            <a:ext cx="152280" cy="185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AFD-B7F0-4600-B788-856F8D31DC5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Control Unit</a:t>
            </a:r>
            <a:br>
              <a:rPr sz="3600"/>
            </a:br>
            <a:r>
              <a:rPr b="1" lang="en-US" sz="2400" spc="-1" strike="noStrike">
                <a:solidFill>
                  <a:srgbClr val="ff0000"/>
                </a:solidFill>
                <a:latin typeface="Maiandra GD"/>
              </a:rPr>
              <a:t>(Level 2 Flowcharts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645" name=""/>
          <p:cNvSpPr/>
          <p:nvPr/>
        </p:nvSpPr>
        <p:spPr>
          <a:xfrm>
            <a:off x="140652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124080" y="274320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&lt;0:9&gt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&lt;0:9&gt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+ 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→ 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7" name=""/>
          <p:cNvSpPr/>
          <p:nvPr/>
        </p:nvSpPr>
        <p:spPr>
          <a:xfrm>
            <a:off x="5310360" y="243828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ju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98960" y="304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56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73480" y="426708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EE6-65E8-444B-A38D-A7D80F51885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Data Paths </a:t>
            </a: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(with control points)</a:t>
            </a:r>
            <a:endParaRPr b="1" lang="en-US" sz="36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652" name=""/>
          <p:cNvSpPr/>
          <p:nvPr/>
        </p:nvSpPr>
        <p:spPr>
          <a:xfrm>
            <a:off x="6752160" y="3722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147160" y="2617920"/>
            <a:ext cx="30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69040" y="3633840"/>
            <a:ext cx="406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71640" y="24145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97840" y="19573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71640" y="2814480"/>
            <a:ext cx="0" cy="291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409920" y="3843360"/>
            <a:ext cx="2437920" cy="552240"/>
            <a:chOff x="3409920" y="3843360"/>
            <a:chExt cx="2437920" cy="552240"/>
          </a:xfrm>
        </p:grpSpPr>
        <p:sp>
          <p:nvSpPr>
            <p:cNvPr id="659" name=""/>
            <p:cNvSpPr/>
            <p:nvPr/>
          </p:nvSpPr>
          <p:spPr>
            <a:xfrm>
              <a:off x="3409920" y="384336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933440" y="384336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14480" y="439560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28880" y="439560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09920" y="3843360"/>
              <a:ext cx="30456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543280" y="3843360"/>
              <a:ext cx="30456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23960" y="3843360"/>
              <a:ext cx="30456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628880" y="3843360"/>
              <a:ext cx="30456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3716280" y="3786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38280" y="3786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4501800" y="4217760"/>
            <a:ext cx="304560" cy="11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76800" y="2643120"/>
            <a:ext cx="406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25760" y="4014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134200" y="2719440"/>
            <a:ext cx="1800" cy="29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6720" y="2808360"/>
            <a:ext cx="3049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81120" y="3557520"/>
            <a:ext cx="406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29240" y="4395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69" idx="3"/>
            <a:endCxn id="668" idx="0"/>
          </p:cNvCxnSpPr>
          <p:nvPr/>
        </p:nvCxnSpPr>
        <p:spPr>
          <a:xfrm flipH="1" flipV="1" rot="5400000">
            <a:off x="4404240" y="4034160"/>
            <a:ext cx="1142280" cy="645120"/>
          </a:xfrm>
          <a:prstGeom prst="bentConnector5">
            <a:avLst>
              <a:gd name="adj1" fmla="val -20145"/>
              <a:gd name="adj2" fmla="val 206141"/>
              <a:gd name="adj3" fmla="val 1200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3816360" y="241452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71640" y="3957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1784520" y="2414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80200" y="2414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601040" y="4091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04800" y="36338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02400" y="34815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409920" y="4014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71440" y="38894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991120" y="27543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69640" y="26161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7520" y="38624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6991200" y="3175920"/>
            <a:ext cx="762120" cy="229320"/>
            <a:chOff x="6991200" y="3175920"/>
            <a:chExt cx="762120" cy="229320"/>
          </a:xfrm>
        </p:grpSpPr>
        <p:sp>
          <p:nvSpPr>
            <p:cNvPr id="690" name=""/>
            <p:cNvSpPr/>
            <p:nvPr/>
          </p:nvSpPr>
          <p:spPr>
            <a:xfrm flipV="1">
              <a:off x="6991200" y="3176280"/>
              <a:ext cx="762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087680" y="340524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72800" y="340524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91920" y="3176640"/>
              <a:ext cx="95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657920" y="3175920"/>
              <a:ext cx="95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5" name=""/>
          <p:cNvCxnSpPr>
            <a:stCxn id="670" idx="2"/>
          </p:cNvCxnSpPr>
          <p:nvPr/>
        </p:nvCxnSpPr>
        <p:spPr>
          <a:xfrm flipH="1" flipV="1" rot="5400000">
            <a:off x="6483240" y="2744280"/>
            <a:ext cx="610200" cy="1016640"/>
          </a:xfrm>
          <a:prstGeom prst="bentConnector4">
            <a:avLst>
              <a:gd name="adj1" fmla="val -37485"/>
              <a:gd name="adj2" fmla="val 29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6" name=""/>
          <p:cNvCxnSpPr>
            <a:stCxn id="692" idx="0"/>
            <a:endCxn id="654" idx="0"/>
          </p:cNvCxnSpPr>
          <p:nvPr/>
        </p:nvCxnSpPr>
        <p:spPr>
          <a:xfrm>
            <a:off x="7372080" y="34048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7296120" y="294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524720" y="2414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40440" y="32655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562080" y="312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19400" y="4700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640680" y="45482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989680" y="3038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57320" y="29131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467000" y="5233320"/>
            <a:ext cx="761760" cy="229320"/>
            <a:chOff x="1467000" y="5233320"/>
            <a:chExt cx="761760" cy="229320"/>
          </a:xfrm>
        </p:grpSpPr>
        <p:sp>
          <p:nvSpPr>
            <p:cNvPr id="706" name=""/>
            <p:cNvSpPr/>
            <p:nvPr/>
          </p:nvSpPr>
          <p:spPr>
            <a:xfrm flipV="1">
              <a:off x="1467000" y="5233680"/>
              <a:ext cx="761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63480" y="546264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48960" y="546264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68800" y="5234040"/>
              <a:ext cx="94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2134080" y="5233320"/>
              <a:ext cx="94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1860480" y="5068800"/>
            <a:ext cx="2793960" cy="165240"/>
          </a:xfrm>
          <a:custGeom>
            <a:avLst/>
            <a:gdLst/>
            <a:ahLst/>
            <a:rect l="l" t="t" r="r" b="b"/>
            <a:pathLst>
              <a:path w="1760" h="104">
                <a:moveTo>
                  <a:pt x="1760" y="0"/>
                </a:moveTo>
                <a:lnTo>
                  <a:pt x="0" y="0"/>
                </a:lnTo>
                <a:lnTo>
                  <a:pt x="0" y="10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70040" y="4471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71640" y="5462640"/>
            <a:ext cx="718920" cy="104760"/>
          </a:xfrm>
          <a:custGeom>
            <a:avLst/>
            <a:gdLst/>
            <a:ahLst/>
            <a:rect l="l" t="t" r="r" b="b"/>
            <a:pathLst>
              <a:path w="453" h="66">
                <a:moveTo>
                  <a:pt x="453" y="0"/>
                </a:moveTo>
                <a:lnTo>
                  <a:pt x="453" y="63"/>
                </a:lnTo>
                <a:lnTo>
                  <a:pt x="0" y="6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415880" y="53103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024920" y="51577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73200" y="518796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754280" y="518796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178760" y="314496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407360" y="313992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771640" y="5400720"/>
            <a:ext cx="1743120" cy="799920"/>
          </a:xfrm>
          <a:prstGeom prst="wedgeRectCallout">
            <a:avLst>
              <a:gd name="adj1" fmla="val -80236"/>
              <a:gd name="adj2" fmla="val -5495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necess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F1E-65FE-45F5-B466-73B21A78C46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1928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aiandra GD"/>
              </a:rPr>
              <a:t>Easy I - Control Unit</a:t>
            </a:r>
            <a:endParaRPr b="1" lang="en-US" sz="48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722" name=""/>
          <p:cNvSpPr/>
          <p:nvPr/>
        </p:nvSpPr>
        <p:spPr>
          <a:xfrm>
            <a:off x="3571920" y="1758960"/>
            <a:ext cx="1760400" cy="2604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37000" y="4813200"/>
            <a:ext cx="1846080" cy="70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171880" y="2014560"/>
            <a:ext cx="377640" cy="1844640"/>
          </a:xfrm>
          <a:custGeom>
            <a:avLst/>
            <a:gdLst>
              <a:gd name="textAreaLeft" fmla="*/ 241200 w 377640"/>
              <a:gd name="textAreaRight" fmla="*/ 378000 w 377640"/>
              <a:gd name="textAreaTop" fmla="*/ 47880 h 1844640"/>
              <a:gd name="textAreaBottom" fmla="*/ 1796760 h 184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32240" y="2346480"/>
            <a:ext cx="11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3" idx="1"/>
            <a:endCxn id="724" idx="1"/>
          </p:cNvCxnSpPr>
          <p:nvPr/>
        </p:nvCxnSpPr>
        <p:spPr>
          <a:xfrm rot="10800000">
            <a:off x="2171160" y="2936880"/>
            <a:ext cx="1365840" cy="2230920"/>
          </a:xfrm>
          <a:prstGeom prst="bentConnector3">
            <a:avLst>
              <a:gd name="adj1" fmla="val 1167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2532240" y="2820960"/>
            <a:ext cx="10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32240" y="3295800"/>
            <a:ext cx="10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32240" y="3772080"/>
            <a:ext cx="11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701080" y="20430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: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16480" y="252396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5400000">
            <a:off x="3536640" y="5279760"/>
            <a:ext cx="25884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704240" y="56116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stCxn id="733" idx="3"/>
            <a:endCxn id="732" idx="3"/>
          </p:cNvCxnSpPr>
          <p:nvPr/>
        </p:nvCxnSpPr>
        <p:spPr>
          <a:xfrm flipV="1">
            <a:off x="2581200" y="5392080"/>
            <a:ext cx="977040" cy="448200"/>
          </a:xfrm>
          <a:prstGeom prst="bentConnector3">
            <a:avLst>
              <a:gd name="adj1" fmla="val 497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2803680" y="302112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417040" y="34862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7011360" y="1887480"/>
            <a:ext cx="377640" cy="2432160"/>
          </a:xfrm>
          <a:custGeom>
            <a:avLst/>
            <a:gdLst>
              <a:gd name="textAreaLeft" fmla="*/ 240840 w 377640"/>
              <a:gd name="textAreaRight" fmla="*/ 377640 w 377640"/>
              <a:gd name="textAreaTop" fmla="*/ 63360 h 2432160"/>
              <a:gd name="textAreaBottom" fmla="*/ 2368800 h 243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7" idx="1"/>
            <a:endCxn id="723" idx="3"/>
          </p:cNvCxnSpPr>
          <p:nvPr/>
        </p:nvCxnSpPr>
        <p:spPr>
          <a:xfrm flipH="1">
            <a:off x="5382720" y="3103200"/>
            <a:ext cx="2007360" cy="2064600"/>
          </a:xfrm>
          <a:prstGeom prst="bentConnector3">
            <a:avLst>
              <a:gd name="adj1" fmla="val -113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5076720" y="2101680"/>
            <a:ext cx="101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84800" y="253224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18280" y="2747880"/>
            <a:ext cx="7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70480" y="29638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197320" y="2316240"/>
            <a:ext cx="89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34120" y="317808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265720" y="361008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162400" y="3825720"/>
            <a:ext cx="93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40360" y="4041720"/>
            <a:ext cx="10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34120" y="339408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46280" y="1936800"/>
            <a:ext cx="678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143400" y="3016080"/>
            <a:ext cx="502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142680" y="2800440"/>
            <a:ext cx="43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143040" y="2152800"/>
            <a:ext cx="518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145560" y="2368440"/>
            <a:ext cx="570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143400" y="2584440"/>
            <a:ext cx="508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144480" y="3232080"/>
            <a:ext cx="56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139800" y="3448080"/>
            <a:ext cx="711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36560" y="3664080"/>
            <a:ext cx="642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24680" y="387972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6418440" y="4986360"/>
            <a:ext cx="32688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499080" y="518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18880" y="5167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2463840" y="4983120"/>
            <a:ext cx="32688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564280" y="5164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C2D-4F59-4B5F-AFF1-22123DC4225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42720" y="270000"/>
            <a:ext cx="823428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Control Unit State Transition Table (Part I)</a:t>
            </a:r>
            <a:endParaRPr b="1" lang="en-US" sz="2800" spc="-1" strike="noStrike">
              <a:solidFill>
                <a:srgbClr val="ff0000"/>
              </a:solidFill>
              <a:latin typeface="Maiandra GD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493560" y="1389240"/>
          <a:ext cx="8218800" cy="4681440"/>
        </p:xfrm>
        <a:graphic>
          <a:graphicData uri="http://schemas.openxmlformats.org/drawingml/2006/table">
            <a:tbl>
              <a:tblPr/>
              <a:tblGrid>
                <a:gridCol w="763920"/>
                <a:gridCol w="887040"/>
                <a:gridCol w="343440"/>
                <a:gridCol w="643680"/>
                <a:gridCol w="216000"/>
                <a:gridCol w="910800"/>
                <a:gridCol w="566280"/>
                <a:gridCol w="602640"/>
                <a:gridCol w="506160"/>
                <a:gridCol w="455400"/>
                <a:gridCol w="417600"/>
                <a:gridCol w="431640"/>
                <a:gridCol w="430200"/>
                <a:gridCol w="455400"/>
                <a:gridCol w="58860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r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e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e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e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0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n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1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H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45C-8AF3-4261-A3FB-2B0F450F3C5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20480" y="307800"/>
            <a:ext cx="80010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Control Unit State Transition Table (Part II)</a:t>
            </a:r>
            <a:endParaRPr b="1" lang="en-US" sz="2800" spc="-1" strike="noStrike">
              <a:solidFill>
                <a:srgbClr val="ff0000"/>
              </a:solidFill>
              <a:latin typeface="Maiandra GD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209520" y="1406520"/>
          <a:ext cx="8674200" cy="3492360"/>
        </p:xfrm>
        <a:graphic>
          <a:graphicData uri="http://schemas.openxmlformats.org/drawingml/2006/table">
            <a:tbl>
              <a:tblPr/>
              <a:tblGrid>
                <a:gridCol w="836640"/>
                <a:gridCol w="849240"/>
                <a:gridCol w="321120"/>
                <a:gridCol w="685080"/>
                <a:gridCol w="216000"/>
                <a:gridCol w="985320"/>
                <a:gridCol w="531720"/>
                <a:gridCol w="531360"/>
                <a:gridCol w="531720"/>
                <a:gridCol w="531720"/>
                <a:gridCol w="531360"/>
                <a:gridCol w="531720"/>
                <a:gridCol w="531720"/>
                <a:gridCol w="531360"/>
                <a:gridCol w="52812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rr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n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n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8" name=""/>
          <p:cNvSpPr/>
          <p:nvPr/>
        </p:nvSpPr>
        <p:spPr>
          <a:xfrm>
            <a:off x="2328480" y="5494320"/>
            <a:ext cx="44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 with 13 states =&gt; 4 bits o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ADA-96AD-48E3-91C4-064CB6723D6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The von Neumann Architectur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Central Processing (CPU)</a:t>
            </a:r>
            <a:endParaRPr b="1" lang="en-US" sz="28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66" name=""/>
          <p:cNvSpPr/>
          <p:nvPr/>
        </p:nvSpPr>
        <p:spPr>
          <a:xfrm>
            <a:off x="749160" y="2343240"/>
            <a:ext cx="139716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1360" y="3144960"/>
            <a:ext cx="1473120" cy="81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t (CP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419720"/>
            <a:ext cx="139680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76480" y="2822400"/>
            <a:ext cx="542880" cy="2732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9080" y="4097160"/>
            <a:ext cx="542880" cy="2732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51160" y="2228760"/>
            <a:ext cx="5283360" cy="3486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09680" y="2228400"/>
            <a:ext cx="1041480" cy="89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962520"/>
            <a:ext cx="104148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65560" y="2457360"/>
            <a:ext cx="3657600" cy="108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4400" y="40006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962520" y="3943440"/>
            <a:ext cx="3961800" cy="1542960"/>
            <a:chOff x="3962520" y="3943440"/>
            <a:chExt cx="3961800" cy="1542960"/>
          </a:xfrm>
        </p:grpSpPr>
        <p:sp>
          <p:nvSpPr>
            <p:cNvPr id="77" name=""/>
            <p:cNvSpPr/>
            <p:nvPr/>
          </p:nvSpPr>
          <p:spPr>
            <a:xfrm>
              <a:off x="3962520" y="3943440"/>
              <a:ext cx="3961800" cy="15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59800" y="4457520"/>
              <a:ext cx="275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connected register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xes, decoders,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876920" y="35434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807240" y="354312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7320" y="35812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4200" y="35812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62120" y="31748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62840" y="51181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72320" y="50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260240" y="3276360"/>
            <a:ext cx="114480" cy="30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637-AA04-4E30-A414-1B07F35CBE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aiandra GD"/>
              </a:rPr>
              <a:t>Easy-I Control Unit – Some missing details</a:t>
            </a:r>
            <a:endParaRPr b="1" lang="en-US" sz="3200" spc="-1" strike="noStrike">
              <a:solidFill>
                <a:srgbClr val="ff0000"/>
              </a:solidFill>
              <a:latin typeface="Maiandra GD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11280" y="1773360"/>
          <a:ext cx="2895480" cy="38844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co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e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e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n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4740120" y="1992240"/>
          <a:ext cx="3400560" cy="1700280"/>
        </p:xfrm>
        <a:graphic>
          <a:graphicData uri="http://schemas.openxmlformats.org/drawingml/2006/table">
            <a:tbl>
              <a:tblPr/>
              <a:tblGrid>
                <a:gridCol w="1133640"/>
                <a:gridCol w="1133640"/>
                <a:gridCol w="1133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O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ot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 and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 +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H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 /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2" name=""/>
          <p:cNvSpPr/>
          <p:nvPr/>
        </p:nvSpPr>
        <p:spPr>
          <a:xfrm>
            <a:off x="294480" y="123516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-bit Encodings fo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23880" y="143352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LU Operatio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55280" y="3983040"/>
            <a:ext cx="42544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e know how to implement this ALU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78400" y="3738600"/>
            <a:ext cx="397080" cy="230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5246640" y="4998960"/>
          <a:ext cx="2266920" cy="1154160"/>
        </p:xfrm>
        <a:graphic>
          <a:graphicData uri="http://schemas.openxmlformats.org/drawingml/2006/table">
            <a:tbl>
              <a:tblPr/>
              <a:tblGrid>
                <a:gridCol w="1133280"/>
                <a:gridCol w="1133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"/>
          <p:cNvSpPr/>
          <p:nvPr/>
        </p:nvSpPr>
        <p:spPr>
          <a:xfrm>
            <a:off x="4851360" y="453564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trol Bus Operatio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0EF-2B58-41BE-8E02-1193DC488A9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67920" y="393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Control Unit State Transition Table (Part I)</a:t>
            </a:r>
            <a:endParaRPr b="1" lang="en-US" sz="2800" spc="-1" strike="noStrike">
              <a:solidFill>
                <a:srgbClr val="ff0000"/>
              </a:solidFill>
              <a:latin typeface="Maiandra GD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345960" y="1314360"/>
          <a:ext cx="8383680" cy="4498920"/>
        </p:xfrm>
        <a:graphic>
          <a:graphicData uri="http://schemas.openxmlformats.org/drawingml/2006/table">
            <a:tbl>
              <a:tblPr/>
              <a:tblGrid>
                <a:gridCol w="849240"/>
                <a:gridCol w="910800"/>
                <a:gridCol w="355680"/>
                <a:gridCol w="527040"/>
                <a:gridCol w="216000"/>
                <a:gridCol w="849240"/>
                <a:gridCol w="639000"/>
                <a:gridCol w="680040"/>
                <a:gridCol w="543960"/>
                <a:gridCol w="434880"/>
                <a:gridCol w="461880"/>
                <a:gridCol w="408240"/>
                <a:gridCol w="502920"/>
                <a:gridCol w="422280"/>
                <a:gridCol w="58248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r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0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1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A52-B671-4F3E-9669-A579B7C70F2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26520" y="240840"/>
            <a:ext cx="80010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Control Unit State Transition Table (Part II)</a:t>
            </a:r>
            <a:endParaRPr b="1" lang="en-US" sz="2800" spc="-1" strike="noStrike">
              <a:solidFill>
                <a:srgbClr val="ff0000"/>
              </a:solidFill>
              <a:latin typeface="Maiandra GD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1520" y="1255680"/>
          <a:ext cx="8501040" cy="3492360"/>
        </p:xfrm>
        <a:graphic>
          <a:graphicData uri="http://schemas.openxmlformats.org/drawingml/2006/table">
            <a:tbl>
              <a:tblPr/>
              <a:tblGrid>
                <a:gridCol w="926280"/>
                <a:gridCol w="790200"/>
                <a:gridCol w="395280"/>
                <a:gridCol w="555480"/>
                <a:gridCol w="216000"/>
                <a:gridCol w="821880"/>
                <a:gridCol w="533160"/>
                <a:gridCol w="532800"/>
                <a:gridCol w="533160"/>
                <a:gridCol w="533160"/>
                <a:gridCol w="532800"/>
                <a:gridCol w="533160"/>
                <a:gridCol w="533160"/>
                <a:gridCol w="532800"/>
                <a:gridCol w="53172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rr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575-A494-4545-886B-2BC6D8AB109B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266400"/>
            <a:ext cx="758196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Control Unit</a:t>
            </a:r>
            <a:br>
              <a:rPr sz="2800"/>
            </a:br>
            <a:r>
              <a:rPr b="1" lang="en-US" sz="1600" spc="-1" strike="noStrike">
                <a:solidFill>
                  <a:srgbClr val="ff0000"/>
                </a:solidFill>
                <a:latin typeface="Maiandra GD"/>
              </a:rPr>
              <a:t>(Level 3 Flowcharts)</a:t>
            </a:r>
            <a:endParaRPr b="1" lang="en-US" sz="16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783" name=""/>
          <p:cNvSpPr/>
          <p:nvPr/>
        </p:nvSpPr>
        <p:spPr>
          <a:xfrm>
            <a:off x="1420920" y="4956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3186000" y="2004840"/>
          <a:ext cx="2819520" cy="1212840"/>
        </p:xfrm>
        <a:graphic>
          <a:graphicData uri="http://schemas.openxmlformats.org/drawingml/2006/table">
            <a:tbl>
              <a:tblPr/>
              <a:tblGrid>
                <a:gridCol w="243864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"/>
          <p:cNvSpPr/>
          <p:nvPr/>
        </p:nvSpPr>
        <p:spPr>
          <a:xfrm>
            <a:off x="5050080" y="167472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etch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32400" y="3477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52480" y="5276880"/>
            <a:ext cx="751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4896000"/>
            <a:ext cx="14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92320" y="466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988920" y="49449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11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73000" y="497196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1063440" y="5276880"/>
            <a:ext cx="625680" cy="565920"/>
            <a:chOff x="1063440" y="5276880"/>
            <a:chExt cx="625680" cy="565920"/>
          </a:xfrm>
        </p:grpSpPr>
        <p:sp>
          <p:nvSpPr>
            <p:cNvPr id="793" name=""/>
            <p:cNvSpPr/>
            <p:nvPr/>
          </p:nvSpPr>
          <p:spPr>
            <a:xfrm>
              <a:off x="1360080" y="5276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63440" y="5505480"/>
              <a:ext cx="6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ao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380680" y="5276880"/>
            <a:ext cx="609120" cy="565920"/>
            <a:chOff x="2380680" y="5276880"/>
            <a:chExt cx="609120" cy="565920"/>
          </a:xfrm>
        </p:grpSpPr>
        <p:sp>
          <p:nvSpPr>
            <p:cNvPr id="796" name=""/>
            <p:cNvSpPr/>
            <p:nvPr/>
          </p:nvSpPr>
          <p:spPr>
            <a:xfrm>
              <a:off x="2700000" y="5276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80680" y="55054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so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687120" y="5276880"/>
            <a:ext cx="593640" cy="565920"/>
            <a:chOff x="3687120" y="5276880"/>
            <a:chExt cx="593640" cy="565920"/>
          </a:xfrm>
        </p:grpSpPr>
        <p:sp>
          <p:nvSpPr>
            <p:cNvPr id="799" name=""/>
            <p:cNvSpPr/>
            <p:nvPr/>
          </p:nvSpPr>
          <p:spPr>
            <a:xfrm>
              <a:off x="3954240" y="5276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87120" y="5505480"/>
              <a:ext cx="5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975560" y="5276880"/>
            <a:ext cx="671400" cy="565920"/>
            <a:chOff x="4975560" y="5276880"/>
            <a:chExt cx="671400" cy="565920"/>
          </a:xfrm>
        </p:grpSpPr>
        <p:sp>
          <p:nvSpPr>
            <p:cNvPr id="802" name=""/>
            <p:cNvSpPr/>
            <p:nvPr/>
          </p:nvSpPr>
          <p:spPr>
            <a:xfrm>
              <a:off x="5246640" y="5276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75560" y="550548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6336360" y="5276880"/>
            <a:ext cx="514440" cy="565920"/>
            <a:chOff x="6336360" y="5276880"/>
            <a:chExt cx="514440" cy="565920"/>
          </a:xfrm>
        </p:grpSpPr>
        <p:sp>
          <p:nvSpPr>
            <p:cNvPr id="805" name=""/>
            <p:cNvSpPr/>
            <p:nvPr/>
          </p:nvSpPr>
          <p:spPr>
            <a:xfrm>
              <a:off x="6583320" y="5276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36360" y="5505480"/>
              <a:ext cx="5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b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7534440" y="5276880"/>
            <a:ext cx="671400" cy="565920"/>
            <a:chOff x="7534440" y="5276880"/>
            <a:chExt cx="671400" cy="565920"/>
          </a:xfrm>
        </p:grpSpPr>
        <p:sp>
          <p:nvSpPr>
            <p:cNvPr id="808" name=""/>
            <p:cNvSpPr/>
            <p:nvPr/>
          </p:nvSpPr>
          <p:spPr>
            <a:xfrm>
              <a:off x="7863120" y="52768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34440" y="550548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ju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271600" y="49719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0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838760" y="49719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54280" y="49719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1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21440" y="49719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405560" y="49719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0 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460160" y="5938920"/>
            <a:ext cx="64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 must be an input to CU’s sequentia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24640" y="2004840"/>
            <a:ext cx="3808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58000" y="1752480"/>
            <a:ext cx="1143000" cy="838440"/>
          </a:xfrm>
          <a:prstGeom prst="wedgeRoundRectCallout">
            <a:avLst>
              <a:gd name="adj1" fmla="val -124166"/>
              <a:gd name="adj2" fmla="val 40532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mory B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3152880" y="3700440"/>
          <a:ext cx="2819160" cy="1212840"/>
        </p:xfrm>
        <a:graphic>
          <a:graphicData uri="http://schemas.openxmlformats.org/drawingml/2006/table">
            <a:tbl>
              <a:tblPr/>
              <a:tblGrid>
                <a:gridCol w="2438280"/>
                <a:gridCol w="380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ch on op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"/>
          <p:cNvSpPr/>
          <p:nvPr/>
        </p:nvSpPr>
        <p:spPr>
          <a:xfrm>
            <a:off x="5016960" y="337032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etch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629240" y="3219480"/>
            <a:ext cx="1404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FD3-41BE-4CF4-A6C5-96365042FC6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72840" y="609480"/>
            <a:ext cx="7785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Building the Easy-I C-Unit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2 Approaches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well known sequential circuit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Micro-program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Treat state transition table as a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Build a new abstraction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97560" y="518148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Microprogramming abstrac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467480" y="3276720"/>
            <a:ext cx="1371600" cy="761760"/>
          </a:xfrm>
          <a:prstGeom prst="wedgeRoundRectCallout">
            <a:avLst>
              <a:gd name="adj1" fmla="val -72337"/>
              <a:gd name="adj2" fmla="val 3145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A55-8DE5-49FA-98B6-CB155630A76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99840" y="377640"/>
            <a:ext cx="7799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Building the Easy-I C-Unit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Hardwired Approach</a:t>
            </a:r>
            <a:endParaRPr b="1" lang="en-US" sz="36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826" name=""/>
          <p:cNvSpPr/>
          <p:nvPr/>
        </p:nvSpPr>
        <p:spPr>
          <a:xfrm>
            <a:off x="3643200" y="2389320"/>
            <a:ext cx="1870200" cy="173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544760" y="432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643200" y="4367160"/>
            <a:ext cx="955800" cy="27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33720" y="510228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&lt;15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39040" y="5388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&lt;10:14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441520" y="3713040"/>
            <a:ext cx="1665360" cy="1324080"/>
          </a:xfrm>
          <a:custGeom>
            <a:avLst/>
            <a:gdLst/>
            <a:ahLst/>
            <a:rect l="l" t="t" r="r" b="b"/>
            <a:pathLst>
              <a:path w="1049" h="834">
                <a:moveTo>
                  <a:pt x="1049" y="584"/>
                </a:moveTo>
                <a:lnTo>
                  <a:pt x="1049" y="834"/>
                </a:lnTo>
                <a:lnTo>
                  <a:pt x="0" y="834"/>
                </a:lnTo>
                <a:lnTo>
                  <a:pt x="0" y="0"/>
                </a:lnTo>
                <a:lnTo>
                  <a:pt x="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92600" y="2967120"/>
            <a:ext cx="285480" cy="895320"/>
          </a:xfrm>
          <a:custGeom>
            <a:avLst/>
            <a:gdLst/>
            <a:ahLst/>
            <a:rect l="l" t="t" r="r" b="b"/>
            <a:pathLst>
              <a:path w="95" h="447">
                <a:moveTo>
                  <a:pt x="0" y="0"/>
                </a:moveTo>
                <a:lnTo>
                  <a:pt x="95" y="215"/>
                </a:lnTo>
                <a:lnTo>
                  <a:pt x="0" y="44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78080" y="349416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3259080" y="3384360"/>
            <a:ext cx="12384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207240" y="3086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21280" y="412272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84720" y="4122720"/>
            <a:ext cx="180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103720" y="4298760"/>
            <a:ext cx="16344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3208320" y="4984920"/>
            <a:ext cx="163440" cy="15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69800" y="47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680000" y="4818240"/>
            <a:ext cx="1392120" cy="106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14960" y="3400560"/>
            <a:ext cx="1392480" cy="10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18720" y="4149720"/>
            <a:ext cx="68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072120" y="4464000"/>
            <a:ext cx="504720" cy="641520"/>
          </a:xfrm>
          <a:custGeom>
            <a:avLst/>
            <a:gdLst/>
            <a:ahLst/>
            <a:rect l="l" t="t" r="r" b="b"/>
            <a:pathLst>
              <a:path w="318" h="404">
                <a:moveTo>
                  <a:pt x="0" y="404"/>
                </a:moveTo>
                <a:lnTo>
                  <a:pt x="318" y="404"/>
                </a:lnTo>
                <a:lnTo>
                  <a:pt x="31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72120" y="4464000"/>
            <a:ext cx="1146240" cy="1050840"/>
          </a:xfrm>
          <a:custGeom>
            <a:avLst/>
            <a:gdLst/>
            <a:ahLst/>
            <a:rect l="l" t="t" r="r" b="b"/>
            <a:pathLst>
              <a:path w="722" h="662">
                <a:moveTo>
                  <a:pt x="0" y="662"/>
                </a:moveTo>
                <a:lnTo>
                  <a:pt x="722" y="662"/>
                </a:lnTo>
                <a:lnTo>
                  <a:pt x="72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5400000">
            <a:off x="6216480" y="4612680"/>
            <a:ext cx="76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5400000">
            <a:off x="6985080" y="4718880"/>
            <a:ext cx="47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4613400" y="2387520"/>
            <a:ext cx="0" cy="1733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838680" y="2498760"/>
            <a:ext cx="489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746240" y="2457360"/>
            <a:ext cx="61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418000" y="4121280"/>
            <a:ext cx="695520" cy="314280"/>
          </a:xfrm>
          <a:custGeom>
            <a:avLst/>
            <a:gdLst/>
            <a:ahLst/>
            <a:rect l="l" t="t" r="r" b="b"/>
            <a:pathLst>
              <a:path w="438" h="198">
                <a:moveTo>
                  <a:pt x="0" y="0"/>
                </a:moveTo>
                <a:lnTo>
                  <a:pt x="0" y="198"/>
                </a:lnTo>
                <a:lnTo>
                  <a:pt x="438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38480" y="3438360"/>
            <a:ext cx="2442960" cy="1911600"/>
          </a:xfrm>
          <a:custGeom>
            <a:avLst/>
            <a:gdLst/>
            <a:ahLst/>
            <a:rect l="l" t="t" r="r" b="b"/>
            <a:pathLst>
              <a:path w="1539" h="1204">
                <a:moveTo>
                  <a:pt x="1539" y="1204"/>
                </a:moveTo>
                <a:lnTo>
                  <a:pt x="0" y="1204"/>
                </a:lnTo>
                <a:lnTo>
                  <a:pt x="0" y="0"/>
                </a:lnTo>
                <a:lnTo>
                  <a:pt x="4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67040" y="3220920"/>
            <a:ext cx="2689200" cy="2430720"/>
          </a:xfrm>
          <a:custGeom>
            <a:avLst/>
            <a:gdLst/>
            <a:ahLst/>
            <a:rect l="l" t="t" r="r" b="b"/>
            <a:pathLst>
              <a:path w="1539" h="1204">
                <a:moveTo>
                  <a:pt x="1539" y="1204"/>
                </a:moveTo>
                <a:lnTo>
                  <a:pt x="0" y="1204"/>
                </a:lnTo>
                <a:lnTo>
                  <a:pt x="0" y="0"/>
                </a:lnTo>
                <a:lnTo>
                  <a:pt x="4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2909880" y="5574960"/>
            <a:ext cx="163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17360" y="5356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52880" y="2019240"/>
            <a:ext cx="2770200" cy="2689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5964120" y="2128680"/>
            <a:ext cx="5731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561360" y="1857240"/>
            <a:ext cx="11134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82240" y="41814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351400" y="4287600"/>
            <a:ext cx="16344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233320" y="4089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93880" y="3063960"/>
            <a:ext cx="2876400" cy="2755800"/>
          </a:xfrm>
          <a:custGeom>
            <a:avLst/>
            <a:gdLst/>
            <a:ahLst/>
            <a:rect l="l" t="t" r="r" b="b"/>
            <a:pathLst>
              <a:path w="1539" h="1204">
                <a:moveTo>
                  <a:pt x="1539" y="1204"/>
                </a:moveTo>
                <a:lnTo>
                  <a:pt x="0" y="1204"/>
                </a:lnTo>
                <a:lnTo>
                  <a:pt x="0" y="0"/>
                </a:lnTo>
                <a:lnTo>
                  <a:pt x="4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913920" y="560232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&lt;15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0DA-10C0-4851-AC7B-3E558AFC7A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Control Unit State Transition Table (Part II)</a:t>
            </a:r>
            <a:endParaRPr b="1" lang="en-US" sz="28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865" name=""/>
          <p:cNvSpPr/>
          <p:nvPr/>
        </p:nvSpPr>
        <p:spPr>
          <a:xfrm rot="16200000">
            <a:off x="1316880" y="3796200"/>
            <a:ext cx="382680" cy="2523960"/>
          </a:xfrm>
          <a:custGeom>
            <a:avLst/>
            <a:gdLst>
              <a:gd name="textAreaLeft" fmla="*/ 244440 w 382680"/>
              <a:gd name="textAreaRight" fmla="*/ 383040 w 382680"/>
              <a:gd name="textAreaTop" fmla="*/ 65520 h 2523960"/>
              <a:gd name="textAreaBottom" fmla="*/ 2458440 h 25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0120" y="5270400"/>
            <a:ext cx="2672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-bit ROM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16200000">
            <a:off x="5761800" y="2176920"/>
            <a:ext cx="382680" cy="5759640"/>
          </a:xfrm>
          <a:custGeom>
            <a:avLst/>
            <a:gdLst>
              <a:gd name="textAreaLeft" fmla="*/ 244440 w 382680"/>
              <a:gd name="textAreaRight" fmla="*/ 383040 w 382680"/>
              <a:gd name="textAreaTop" fmla="*/ 150120 h 5759640"/>
              <a:gd name="textAreaBottom" fmla="*/ 5609520 h 57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78440" y="5272200"/>
            <a:ext cx="2655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7-bit ROM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230040" y="1316160"/>
          <a:ext cx="8610480" cy="3492360"/>
        </p:xfrm>
        <a:graphic>
          <a:graphicData uri="http://schemas.openxmlformats.org/drawingml/2006/table">
            <a:tbl>
              <a:tblPr/>
              <a:tblGrid>
                <a:gridCol w="939960"/>
                <a:gridCol w="888840"/>
                <a:gridCol w="762120"/>
                <a:gridCol w="228600"/>
                <a:gridCol w="9903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rr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0" name=""/>
          <p:cNvGrpSpPr/>
          <p:nvPr/>
        </p:nvGrpSpPr>
        <p:grpSpPr>
          <a:xfrm>
            <a:off x="177840" y="3016080"/>
            <a:ext cx="4402080" cy="3228120"/>
            <a:chOff x="177840" y="3016080"/>
            <a:chExt cx="4402080" cy="3228120"/>
          </a:xfrm>
        </p:grpSpPr>
        <p:sp>
          <p:nvSpPr>
            <p:cNvPr id="871" name=""/>
            <p:cNvSpPr/>
            <p:nvPr/>
          </p:nvSpPr>
          <p:spPr>
            <a:xfrm>
              <a:off x="177840" y="3016080"/>
              <a:ext cx="2687760" cy="519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22720" y="5176800"/>
              <a:ext cx="1357200" cy="1067400"/>
            </a:xfrm>
            <a:prstGeom prst="rect">
              <a:avLst/>
            </a:prstGeom>
            <a:noFill/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64 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Addr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with 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3" name=""/>
            <p:cNvCxnSpPr>
              <a:stCxn id="872" idx="0"/>
              <a:endCxn id="871" idx="3"/>
            </p:cNvCxnSpPr>
            <p:nvPr/>
          </p:nvCxnSpPr>
          <p:spPr>
            <a:xfrm flipV="1" rot="16200000">
              <a:off x="2442600" y="3717360"/>
              <a:ext cx="1900800" cy="1018440"/>
            </a:xfrm>
            <a:prstGeom prst="bentConnector2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966-6F5C-4A72-B082-F59738199BD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Programmable Logic Arrays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04760" y="142920"/>
            <a:ext cx="8934480" cy="65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AFB-B9D1-4C82-A020-8D2ADFB12B1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281160" y="352440"/>
            <a:ext cx="8581680" cy="615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D98-6DE3-40E1-A1DB-42F938E6AE15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72840" y="609480"/>
            <a:ext cx="7785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Building the Easy-I C-Unit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2 Approaches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Hardw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pply well known sequential circuit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-program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state transition table as a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new abstraction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897560" y="518148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Microprogramming abstrac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467480" y="3276720"/>
            <a:ext cx="1371600" cy="761760"/>
          </a:xfrm>
          <a:prstGeom prst="wedgeRoundRectCallout">
            <a:avLst>
              <a:gd name="adj1" fmla="val -72337"/>
              <a:gd name="adj2" fmla="val 3145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8C3-B04F-416A-AE62-AEEA5D9927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9880" y="2362320"/>
            <a:ext cx="213372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3809880"/>
            <a:ext cx="1295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4114800"/>
            <a:ext cx="1295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191120" y="3276720"/>
            <a:ext cx="1371240" cy="399600"/>
            <a:chOff x="4191120" y="3276720"/>
            <a:chExt cx="1371240" cy="399600"/>
          </a:xfrm>
        </p:grpSpPr>
        <p:sp>
          <p:nvSpPr>
            <p:cNvPr id="91" name=""/>
            <p:cNvSpPr/>
            <p:nvPr/>
          </p:nvSpPr>
          <p:spPr>
            <a:xfrm>
              <a:off x="4191120" y="3276720"/>
              <a:ext cx="51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48280" y="3276720"/>
              <a:ext cx="51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62480" y="3676320"/>
              <a:ext cx="51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6920" y="3676320"/>
              <a:ext cx="51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1120" y="3276720"/>
              <a:ext cx="171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391000" y="3276720"/>
              <a:ext cx="171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05200" y="3276720"/>
              <a:ext cx="17136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876920" y="3276720"/>
              <a:ext cx="17136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73800" y="3352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289548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96216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16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3657600"/>
            <a:ext cx="914400" cy="76320"/>
          </a:xfrm>
          <a:custGeom>
            <a:avLst/>
            <a:gdLst/>
            <a:ahLst/>
            <a:rect l="l" t="t" r="r" b="b"/>
            <a:pathLst>
              <a:path w="576" h="48">
                <a:moveTo>
                  <a:pt x="576" y="0"/>
                </a:moveTo>
                <a:lnTo>
                  <a:pt x="576" y="48"/>
                </a:lnTo>
                <a:lnTo>
                  <a:pt x="0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743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32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aiandra GD"/>
              </a:rPr>
              <a:t>Practical Universal Computers</a:t>
            </a:r>
            <a:br>
              <a:rPr sz="4000"/>
            </a:br>
            <a:r>
              <a:rPr b="1" lang="en-US" sz="3200" spc="-1" strike="noStrike">
                <a:solidFill>
                  <a:srgbClr val="ff3300"/>
                </a:solidFill>
                <a:latin typeface="Maiandra GD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Maiandra GD"/>
              </a:rPr>
              <a:t>John) Von Neumann  Architecture (1945)</a:t>
            </a:r>
            <a:endParaRPr b="1" lang="en-US" sz="2400" spc="-1" strike="noStrike">
              <a:solidFill>
                <a:srgbClr val="ff0000"/>
              </a:solidFill>
              <a:latin typeface="Maiandra G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6120" y="2070000"/>
            <a:ext cx="2469960" cy="3487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553080" y="2286000"/>
            <a:ext cx="1143000" cy="32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2286000"/>
            <a:ext cx="114300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3886200"/>
            <a:ext cx="1143000" cy="16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8560" y="18273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876920"/>
            <a:ext cx="21337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Un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1981080"/>
            <a:ext cx="25905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10080" y="1895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89" idx="3"/>
            <a:endCxn id="114" idx="1"/>
          </p:cNvCxnSpPr>
          <p:nvPr/>
        </p:nvCxnSpPr>
        <p:spPr>
          <a:xfrm>
            <a:off x="5486040" y="4228920"/>
            <a:ext cx="1067400" cy="495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8" idx="3"/>
            <a:endCxn id="113" idx="1"/>
          </p:cNvCxnSpPr>
          <p:nvPr/>
        </p:nvCxnSpPr>
        <p:spPr>
          <a:xfrm flipV="1">
            <a:off x="5486040" y="3085920"/>
            <a:ext cx="1067400" cy="838800"/>
          </a:xfrm>
          <a:prstGeom prst="curvedConnector5">
            <a:avLst>
              <a:gd name="adj1" fmla="val 50000"/>
              <a:gd name="adj2" fmla="val 4997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23280" y="5537160"/>
            <a:ext cx="65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PU + Memory makes up a universal T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n interpreter of some programming language (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86200" y="4495680"/>
            <a:ext cx="1981080" cy="304920"/>
            <a:chOff x="3886200" y="4495680"/>
            <a:chExt cx="1981080" cy="304920"/>
          </a:xfrm>
        </p:grpSpPr>
        <p:sp>
          <p:nvSpPr>
            <p:cNvPr id="123" name=""/>
            <p:cNvSpPr/>
            <p:nvPr/>
          </p:nvSpPr>
          <p:spPr>
            <a:xfrm>
              <a:off x="3886200" y="4495680"/>
              <a:ext cx="990360" cy="304920"/>
            </a:xfrm>
            <a:prstGeom prst="upArrow">
              <a:avLst>
                <a:gd name="adj1" fmla="val 50000"/>
                <a:gd name="adj2" fmla="val 5833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560" y="4495680"/>
              <a:ext cx="9907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827120" y="3224160"/>
            <a:ext cx="1113840" cy="2712960"/>
            <a:chOff x="7827120" y="3224160"/>
            <a:chExt cx="1113840" cy="271296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7872480" y="4361040"/>
              <a:ext cx="1068480" cy="15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827120" y="3224160"/>
              <a:ext cx="10843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look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ust like 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M Tape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8267400" y="4088880"/>
              <a:ext cx="5076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F6E-2169-4D5B-81F5-1FDCD16B7C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357840" y="2849400"/>
            <a:ext cx="1076040" cy="243000"/>
            <a:chOff x="357840" y="2849400"/>
            <a:chExt cx="1076040" cy="243000"/>
          </a:xfrm>
        </p:grpSpPr>
        <p:sp>
          <p:nvSpPr>
            <p:cNvPr id="882" name=""/>
            <p:cNvSpPr/>
            <p:nvPr/>
          </p:nvSpPr>
          <p:spPr>
            <a:xfrm>
              <a:off x="357840" y="3090600"/>
              <a:ext cx="1076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93200" y="284940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97120" y="2849400"/>
              <a:ext cx="40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358920" y="2849400"/>
              <a:ext cx="13392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1299600" y="2849400"/>
              <a:ext cx="13392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393840" y="2903400"/>
            <a:ext cx="36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62080" y="290340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95160" y="290340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28800" y="290340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2506680" y="1862280"/>
          <a:ext cx="4643280" cy="2671560"/>
        </p:xfrm>
        <a:graphic>
          <a:graphicData uri="http://schemas.openxmlformats.org/drawingml/2006/table">
            <a:tbl>
              <a:tblPr/>
              <a:tblGrid>
                <a:gridCol w="684360"/>
                <a:gridCol w="684000"/>
                <a:gridCol w="368280"/>
                <a:gridCol w="409680"/>
                <a:gridCol w="504720"/>
                <a:gridCol w="368280"/>
                <a:gridCol w="300240"/>
                <a:gridCol w="260280"/>
                <a:gridCol w="244440"/>
                <a:gridCol w="260280"/>
                <a:gridCol w="273240"/>
                <a:gridCol w="2854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et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e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e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n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n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u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</a:tbl>
          </a:graphicData>
        </a:graphic>
      </p:graphicFrame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4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aiandra GD"/>
              </a:rPr>
              <a:t>Building the Easy-I C-Unit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Micro-programmed Approach</a:t>
            </a:r>
            <a:endParaRPr b="1" lang="en-US" sz="2800" spc="-1" strike="noStrike">
              <a:solidFill>
                <a:srgbClr val="ff0000"/>
              </a:solidFill>
              <a:latin typeface="Maiandra GD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033640" y="4770360"/>
          <a:ext cx="6350040" cy="608040"/>
        </p:xfrm>
        <a:graphic>
          <a:graphicData uri="http://schemas.openxmlformats.org/drawingml/2006/table">
            <a:tbl>
              <a:tblPr/>
              <a:tblGrid>
                <a:gridCol w="995400"/>
                <a:gridCol w="534960"/>
                <a:gridCol w="536400"/>
                <a:gridCol w="534960"/>
                <a:gridCol w="534960"/>
                <a:gridCol w="535320"/>
                <a:gridCol w="534960"/>
                <a:gridCol w="536400"/>
                <a:gridCol w="534960"/>
                <a:gridCol w="536760"/>
                <a:gridCol w="53496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a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</a:tbl>
          </a:graphicData>
        </a:graphic>
      </p:graphicFrame>
      <p:sp>
        <p:nvSpPr>
          <p:cNvPr id="894" name=""/>
          <p:cNvSpPr/>
          <p:nvPr/>
        </p:nvSpPr>
        <p:spPr>
          <a:xfrm>
            <a:off x="379440" y="3519360"/>
            <a:ext cx="411120" cy="141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Op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ap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477720" y="493992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80720" y="547524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531360" y="3083040"/>
            <a:ext cx="180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46000" y="3084480"/>
            <a:ext cx="1746360" cy="2689200"/>
          </a:xfrm>
          <a:custGeom>
            <a:avLst/>
            <a:gdLst/>
            <a:ahLst/>
            <a:rect l="l" t="t" r="r" b="b"/>
            <a:pathLst>
              <a:path w="833" h="1694">
                <a:moveTo>
                  <a:pt x="833" y="1453"/>
                </a:moveTo>
                <a:lnTo>
                  <a:pt x="833" y="1694"/>
                </a:lnTo>
                <a:lnTo>
                  <a:pt x="0" y="169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05080" y="3016080"/>
            <a:ext cx="1938240" cy="2621160"/>
          </a:xfrm>
          <a:custGeom>
            <a:avLst/>
            <a:gdLst/>
            <a:ahLst/>
            <a:rect l="l" t="t" r="r" b="b"/>
            <a:pathLst>
              <a:path w="1221" h="1651">
                <a:moveTo>
                  <a:pt x="1221" y="1504"/>
                </a:moveTo>
                <a:lnTo>
                  <a:pt x="1221" y="1651"/>
                </a:lnTo>
                <a:lnTo>
                  <a:pt x="327" y="1651"/>
                </a:lnTo>
                <a:lnTo>
                  <a:pt x="327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384200" y="44449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: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637760" y="2895480"/>
            <a:ext cx="109980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Comb Log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5400000">
            <a:off x="5821560" y="3281760"/>
            <a:ext cx="339840" cy="4751640"/>
          </a:xfrm>
          <a:custGeom>
            <a:avLst/>
            <a:gdLst>
              <a:gd name="textAreaLeft" fmla="*/ 0 w 339840"/>
              <a:gd name="textAreaRight" fmla="*/ 122760 w 339840"/>
              <a:gd name="textAreaTop" fmla="*/ 123840 h 4751640"/>
              <a:gd name="textAreaBottom" fmla="*/ 4627800 h 475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127840" y="580392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Path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801800" y="5417640"/>
            <a:ext cx="190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00280" y="5257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7400" y="2265480"/>
            <a:ext cx="668520" cy="587160"/>
          </a:xfrm>
          <a:custGeom>
            <a:avLst/>
            <a:gdLst/>
            <a:ahLst/>
            <a:rect l="l" t="t" r="r" b="b"/>
            <a:pathLst>
              <a:path w="180" h="370">
                <a:moveTo>
                  <a:pt x="0" y="370"/>
                </a:moveTo>
                <a:lnTo>
                  <a:pt x="0" y="0"/>
                </a:lnTo>
                <a:lnTo>
                  <a:pt x="1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38240" y="22795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1561680" y="1779480"/>
            <a:ext cx="368280" cy="933480"/>
            <a:chOff x="1561680" y="1779480"/>
            <a:chExt cx="368280" cy="933480"/>
          </a:xfrm>
        </p:grpSpPr>
        <p:sp>
          <p:nvSpPr>
            <p:cNvPr id="909" name=""/>
            <p:cNvSpPr/>
            <p:nvPr/>
          </p:nvSpPr>
          <p:spPr>
            <a:xfrm rot="5400000">
              <a:off x="1279080" y="2062080"/>
              <a:ext cx="9334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0800000">
              <a:off x="1576440" y="1793520"/>
              <a:ext cx="123840" cy="136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987480" y="3479760"/>
            <a:ext cx="652320" cy="243000"/>
            <a:chOff x="987480" y="3479760"/>
            <a:chExt cx="652320" cy="243000"/>
          </a:xfrm>
        </p:grpSpPr>
        <p:sp>
          <p:nvSpPr>
            <p:cNvPr id="912" name=""/>
            <p:cNvSpPr/>
            <p:nvPr/>
          </p:nvSpPr>
          <p:spPr>
            <a:xfrm>
              <a:off x="987480" y="3720960"/>
              <a:ext cx="652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70280" y="347976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14360" y="3479760"/>
              <a:ext cx="24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988560" y="3479760"/>
              <a:ext cx="8136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1558440" y="3479760"/>
              <a:ext cx="8136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1584360" y="3562200"/>
            <a:ext cx="231840" cy="900360"/>
          </a:xfrm>
          <a:custGeom>
            <a:avLst/>
            <a:gdLst/>
            <a:ahLst/>
            <a:rect l="l" t="t" r="r" b="b"/>
            <a:pathLst>
              <a:path w="189" h="696">
                <a:moveTo>
                  <a:pt x="189" y="696"/>
                </a:moveTo>
                <a:lnTo>
                  <a:pt x="189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035000" y="3544920"/>
            <a:ext cx="21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328760" y="354492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10080" y="3892680"/>
            <a:ext cx="4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808200" y="2526840"/>
            <a:ext cx="190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06320" y="2367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280520" y="3892680"/>
            <a:ext cx="41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 flipV="1">
            <a:off x="1131480" y="37206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 flipV="1">
            <a:off x="1447920" y="3719160"/>
            <a:ext cx="144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324080" y="30844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1092240" y="30841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060640" y="4284360"/>
            <a:ext cx="1119240" cy="47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7137000" y="4300200"/>
            <a:ext cx="1174680" cy="42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51040" y="3230640"/>
            <a:ext cx="5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u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178760" y="1857240"/>
            <a:ext cx="403200" cy="2671920"/>
          </a:xfrm>
          <a:custGeom>
            <a:avLst/>
            <a:gdLst>
              <a:gd name="textAreaLeft" fmla="*/ 0 w 403200"/>
              <a:gd name="textAreaRight" fmla="*/ 145440 w 403200"/>
              <a:gd name="textAreaTop" fmla="*/ 69480 h 2671920"/>
              <a:gd name="textAreaBottom" fmla="*/ 2602440 h 26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33"/>
                </a:lnTo>
                <a:cubicBezTo>
                  <a:pt x="10800" y="9533"/>
                  <a:pt x="16200" y="10433"/>
                  <a:pt x="21600" y="10433"/>
                </a:cubicBezTo>
                <a:cubicBezTo>
                  <a:pt x="16200" y="10433"/>
                  <a:pt x="10800" y="11333"/>
                  <a:pt x="10800" y="1223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16B-2B13-414A-8E94-A6979BFE84D4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3000" y="336600"/>
            <a:ext cx="77454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Finding the first execute state</a:t>
            </a:r>
            <a:br>
              <a:rPr sz="44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Combinational Logic</a:t>
            </a:r>
            <a:endParaRPr b="1" lang="en-US" sz="2800" spc="-1" strike="noStrike">
              <a:solidFill>
                <a:srgbClr val="ff0000"/>
              </a:solidFill>
              <a:latin typeface="Maiandra GD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3309840" y="1955880"/>
          <a:ext cx="4048200" cy="3510000"/>
        </p:xfrm>
        <a:graphic>
          <a:graphicData uri="http://schemas.openxmlformats.org/drawingml/2006/table">
            <a:tbl>
              <a:tblPr/>
              <a:tblGrid>
                <a:gridCol w="1303560"/>
                <a:gridCol w="968400"/>
                <a:gridCol w="655560"/>
                <a:gridCol w="11206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rst Exec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n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u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d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 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o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34" name=""/>
          <p:cNvSpPr/>
          <p:nvPr/>
        </p:nvSpPr>
        <p:spPr>
          <a:xfrm>
            <a:off x="2292480" y="3508200"/>
            <a:ext cx="804600" cy="327240"/>
          </a:xfrm>
          <a:prstGeom prst="rightArrow">
            <a:avLst>
              <a:gd name="adj1" fmla="val 50000"/>
              <a:gd name="adj2" fmla="val 61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2143080" y="1761840"/>
            <a:ext cx="1146240" cy="122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128680" y="4408560"/>
            <a:ext cx="1160640" cy="1228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690560" y="3000240"/>
            <a:ext cx="411120" cy="141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Op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ap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789200" y="442080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91840" y="49561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1843200" y="2563920"/>
            <a:ext cx="144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D88-CF5E-4676-A854-F84AD7EBE19C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Summary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942" name=""/>
          <p:cNvSpPr/>
          <p:nvPr/>
        </p:nvSpPr>
        <p:spPr>
          <a:xfrm>
            <a:off x="1606680" y="2857680"/>
            <a:ext cx="19713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025960" y="2857680"/>
            <a:ext cx="21160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70440" y="3139920"/>
            <a:ext cx="777600" cy="517680"/>
          </a:xfrm>
          <a:prstGeom prst="rightArrow">
            <a:avLst>
              <a:gd name="adj1" fmla="val 50000"/>
              <a:gd name="adj2" fmla="val 375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912400" y="169704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 we k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44160" y="23954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690880" y="2328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185640" y="4683240"/>
            <a:ext cx="2635920" cy="8254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How do we ge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 the first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352680" y="39258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 Nex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2401560" y="3794040"/>
            <a:ext cx="779400" cy="1268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513480" y="4618080"/>
            <a:ext cx="22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struction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881680" y="4873680"/>
            <a:ext cx="463680" cy="380880"/>
          </a:xfrm>
          <a:prstGeom prst="rightArrow">
            <a:avLst>
              <a:gd name="adj1" fmla="val 50000"/>
              <a:gd name="adj2" fmla="val 3043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2BA-4822-4BE8-9CA0-BB1B2914956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Von Neumann Architecture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Key Ideas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5040" y="2141640"/>
            <a:ext cx="6561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al Co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d Program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10520" y="4986360"/>
            <a:ext cx="68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 Simpl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Practical Realization of a Universal Tur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04F-1F56-4184-B782-85FCE7BC97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153280" y="1981080"/>
            <a:ext cx="304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Easy I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aiandra GD"/>
              </a:rPr>
              <a:t>Data Paths</a:t>
            </a:r>
            <a:endParaRPr b="1" lang="en-US" sz="44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134" name=""/>
          <p:cNvSpPr/>
          <p:nvPr/>
        </p:nvSpPr>
        <p:spPr>
          <a:xfrm>
            <a:off x="1712520" y="5257800"/>
            <a:ext cx="59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ically, designing a processor is an iter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ka trial end error)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981080"/>
            <a:ext cx="406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7524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3640" y="14097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152800"/>
            <a:ext cx="0" cy="29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581280" y="3181320"/>
            <a:ext cx="2438280" cy="552240"/>
            <a:chOff x="3581280" y="3181320"/>
            <a:chExt cx="2438280" cy="552240"/>
          </a:xfrm>
        </p:grpSpPr>
        <p:sp>
          <p:nvSpPr>
            <p:cNvPr id="140" name=""/>
            <p:cNvSpPr/>
            <p:nvPr/>
          </p:nvSpPr>
          <p:spPr>
            <a:xfrm>
              <a:off x="3581280" y="3181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5160" y="3181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5840" y="3733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0240" y="3733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3181320"/>
              <a:ext cx="30456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14640" y="3181320"/>
              <a:ext cx="30456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95680" y="3181320"/>
              <a:ext cx="30456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00240" y="3181320"/>
              <a:ext cx="30456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87640" y="312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9640" y="3124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4673160" y="3555720"/>
            <a:ext cx="304560" cy="11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6360" y="1981080"/>
            <a:ext cx="406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7120" y="335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53280" y="2095560"/>
            <a:ext cx="0" cy="29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133720"/>
            <a:ext cx="30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2895480"/>
            <a:ext cx="406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0" idx="3"/>
            <a:endCxn id="149" idx="0"/>
          </p:cNvCxnSpPr>
          <p:nvPr/>
        </p:nvCxnSpPr>
        <p:spPr>
          <a:xfrm flipH="1" flipV="1" rot="5400000">
            <a:off x="4575600" y="3372120"/>
            <a:ext cx="1142280" cy="645120"/>
          </a:xfrm>
          <a:prstGeom prst="bentConnector5">
            <a:avLst>
              <a:gd name="adj1" fmla="val -20145"/>
              <a:gd name="adj2" fmla="val 206141"/>
              <a:gd name="adj3" fmla="val 1200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3987720" y="175248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329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5588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0" idx="3"/>
          </p:cNvCxnSpPr>
          <p:nvPr/>
        </p:nvCxnSpPr>
        <p:spPr>
          <a:xfrm rot="5400000">
            <a:off x="2944080" y="2540160"/>
            <a:ext cx="154800" cy="3605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3"/>
            <a:endCxn id="135" idx="1"/>
          </p:cNvCxnSpPr>
          <p:nvPr/>
        </p:nvCxnSpPr>
        <p:spPr>
          <a:xfrm>
            <a:off x="6832080" y="2437920"/>
            <a:ext cx="40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66294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22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45320" y="232416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F1E-5EE7-483F-A488-691B8274B2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The (John) Von Neumann Architectur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The Memory Unit</a:t>
            </a:r>
            <a:endParaRPr b="1" lang="en-US" sz="2800" spc="-1" strike="noStrike">
              <a:solidFill>
                <a:srgbClr val="ff0000"/>
              </a:solidFill>
              <a:latin typeface="Maiandra GD"/>
            </a:endParaRPr>
          </a:p>
        </p:txBody>
      </p:sp>
      <p:sp>
        <p:nvSpPr>
          <p:cNvPr id="167" name=""/>
          <p:cNvSpPr/>
          <p:nvPr/>
        </p:nvSpPr>
        <p:spPr>
          <a:xfrm>
            <a:off x="876240" y="2743200"/>
            <a:ext cx="139716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657600"/>
            <a:ext cx="147348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t (CP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61840" y="4910040"/>
            <a:ext cx="139716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3200" y="3286080"/>
            <a:ext cx="543240" cy="2732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9160" y="4522680"/>
            <a:ext cx="542880" cy="2732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1771560"/>
            <a:ext cx="4368960" cy="4019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86000" y="1771560"/>
            <a:ext cx="1371600" cy="302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5257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165560" y="2400480"/>
          <a:ext cx="3073320" cy="3031920"/>
        </p:xfrm>
        <a:graphic>
          <a:graphicData uri="http://schemas.openxmlformats.org/drawingml/2006/table">
            <a:tbl>
              <a:tblPr/>
              <a:tblGrid>
                <a:gridCol w="627120"/>
                <a:gridCol w="2446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DD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B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JUM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775040" y="205740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13680" y="205740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76560" y="220032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20032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7480" y="19810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264080" y="240048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520" y="541008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6753600" y="3531240"/>
            <a:ext cx="16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518240" y="240048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792-C3A4-4105-960B-62F1CF581C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The (John) Von Neuman Architectur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Stored Program Concept</a:t>
            </a:r>
            <a:endParaRPr b="1" lang="en-US" sz="2800" spc="-1" strike="noStrike">
              <a:solidFill>
                <a:srgbClr val="ff0000"/>
              </a:solidFill>
              <a:latin typeface="Maiandra GD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52480" y="1981080"/>
          <a:ext cx="3048120" cy="3032280"/>
        </p:xfrm>
        <a:graphic>
          <a:graphicData uri="http://schemas.openxmlformats.org/drawingml/2006/table">
            <a:tbl>
              <a:tblPr/>
              <a:tblGrid>
                <a:gridCol w="627120"/>
                <a:gridCol w="2421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DD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B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JUM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003640" y="2209680"/>
            <a:ext cx="304920" cy="857520"/>
          </a:xfrm>
          <a:custGeom>
            <a:avLst/>
            <a:gdLst>
              <a:gd name="textAreaLeft" fmla="*/ 0 w 304920"/>
              <a:gd name="textAreaRight" fmla="*/ 110160 w 304920"/>
              <a:gd name="textAreaTop" fmla="*/ 22320 h 857520"/>
              <a:gd name="textAreaBottom" fmla="*/ 83520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03640" y="3295800"/>
            <a:ext cx="304920" cy="857160"/>
          </a:xfrm>
          <a:custGeom>
            <a:avLst/>
            <a:gdLst>
              <a:gd name="textAreaLeft" fmla="*/ 0 w 304920"/>
              <a:gd name="textAreaRight" fmla="*/ 110160 w 304920"/>
              <a:gd name="textAreaTop" fmla="*/ 22320 h 857160"/>
              <a:gd name="textAreaBottom" fmla="*/ 83484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5680" y="2209680"/>
            <a:ext cx="162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9400" y="320040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105520"/>
            <a:ext cx="7162920" cy="1119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76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grams and their data coexist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876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cessor, under program control, keeps track of what needs to be    interpreted as instructions and what a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L 4206 Microprocessors     Lectur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6DF-0DED-4226-B54E-5860330580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l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8:26:20Z</dcterms:created>
  <dc:creator>Bienvenido Velez</dc:creator>
  <dc:description/>
  <dc:language>en-US</dc:language>
  <cp:lastModifiedBy>Bienvenido Velez</cp:lastModifiedBy>
  <dcterms:modified xsi:type="dcterms:W3CDTF">2003-03-17T20:24:41Z</dcterms:modified>
  <cp:revision>305</cp:revision>
  <dc:subject/>
  <dc:title>PowerPoint Presentation</dc:title>
</cp:coreProperties>
</file>