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56F-772F-4EB9-9AAA-66C62A84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912-C4E8-42C8-AD06-7B2CD733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B8D-6E0E-4906-9B25-1846E5C1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223-EB0D-4933-B9B4-F9809147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BA9-DC37-4785-9FD0-02AD04A2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6DF-554D-417C-B4A7-70682DC9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F0C-247B-4018-A60A-80014EDE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AB1-AACE-432E-8044-4BD9115D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A74-02D7-4ACC-A0F9-1F48D15D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6A4-75AB-48E6-B2C5-0EE34141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0B9-DF5F-4DBC-BD19-326A3EFC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F06-99CF-4A65-B8A4-8E06E619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4BCB-BE76-490D-8A8D-179549B0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sy II (Beta)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Path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with control poi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52160" y="3722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147160" y="2617920"/>
            <a:ext cx="30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9040" y="3633840"/>
            <a:ext cx="406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4145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8560" y="19573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814480"/>
            <a:ext cx="0" cy="319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409920" y="3843360"/>
            <a:ext cx="2437920" cy="552240"/>
            <a:chOff x="3409920" y="3843360"/>
            <a:chExt cx="2437920" cy="552240"/>
          </a:xfrm>
        </p:grpSpPr>
        <p:sp>
          <p:nvSpPr>
            <p:cNvPr id="49" name=""/>
            <p:cNvSpPr/>
            <p:nvPr/>
          </p:nvSpPr>
          <p:spPr>
            <a:xfrm>
              <a:off x="3409920" y="384336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33440" y="384336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14480" y="439560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28880" y="439560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09920" y="3843360"/>
              <a:ext cx="30456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543280" y="3843360"/>
              <a:ext cx="30456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23960" y="3843360"/>
              <a:ext cx="30456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628880" y="3843360"/>
              <a:ext cx="30456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16280" y="3786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280" y="3786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501800" y="4217760"/>
            <a:ext cx="304560" cy="11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800" y="2643120"/>
            <a:ext cx="406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25760" y="4014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34200" y="2719440"/>
            <a:ext cx="1800" cy="29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6720" y="2808360"/>
            <a:ext cx="3049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1120" y="3581280"/>
            <a:ext cx="406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29240" y="4395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3"/>
            <a:endCxn id="58" idx="0"/>
          </p:cNvCxnSpPr>
          <p:nvPr/>
        </p:nvCxnSpPr>
        <p:spPr>
          <a:xfrm flipH="1" flipV="1" rot="5400000">
            <a:off x="4403520" y="4036680"/>
            <a:ext cx="1143360" cy="642240"/>
          </a:xfrm>
          <a:prstGeom prst="bentConnector5">
            <a:avLst>
              <a:gd name="adj1" fmla="val -20251"/>
              <a:gd name="adj2" fmla="val 160011"/>
              <a:gd name="adj3" fmla="val 11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816360" y="241452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3957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80200" y="2414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01040" y="4091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04800" y="3733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02400" y="3611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09920" y="4014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440" y="38894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91120" y="27543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9640" y="26161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67520" y="38624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991200" y="3175920"/>
            <a:ext cx="762120" cy="229320"/>
            <a:chOff x="6991200" y="3175920"/>
            <a:chExt cx="762120" cy="229320"/>
          </a:xfrm>
        </p:grpSpPr>
        <p:sp>
          <p:nvSpPr>
            <p:cNvPr id="79" name=""/>
            <p:cNvSpPr/>
            <p:nvPr/>
          </p:nvSpPr>
          <p:spPr>
            <a:xfrm flipV="1">
              <a:off x="6991200" y="3176280"/>
              <a:ext cx="762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87680" y="340524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72800" y="340524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91920" y="3176640"/>
              <a:ext cx="95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657920" y="3175920"/>
              <a:ext cx="95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"/>
          <p:cNvCxnSpPr>
            <a:stCxn id="60" idx="2"/>
          </p:cNvCxnSpPr>
          <p:nvPr/>
        </p:nvCxnSpPr>
        <p:spPr>
          <a:xfrm flipH="1" flipV="1" rot="5400000">
            <a:off x="6482880" y="2743920"/>
            <a:ext cx="610560" cy="1017000"/>
          </a:xfrm>
          <a:prstGeom prst="bentConnector3">
            <a:avLst>
              <a:gd name="adj1" fmla="val -37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1" idx="0"/>
            <a:endCxn id="44" idx="0"/>
          </p:cNvCxnSpPr>
          <p:nvPr/>
        </p:nvCxnSpPr>
        <p:spPr>
          <a:xfrm flipH="1">
            <a:off x="7372080" y="3405240"/>
            <a:ext cx="108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296120" y="294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414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0440" y="32655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62080" y="312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19400" y="4700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40680" y="45482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89680" y="3038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57320" y="29131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78760" y="314496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07360" y="313992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82800" y="5149800"/>
            <a:ext cx="36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03040" y="31449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89680" y="3267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1640" y="5335560"/>
            <a:ext cx="406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14520" y="6049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92680" y="5897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81000" y="560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28760" y="2620800"/>
            <a:ext cx="1494000" cy="392400"/>
          </a:xfrm>
          <a:prstGeom prst="wedgeRectCallout">
            <a:avLst>
              <a:gd name="adj1" fmla="val -53717"/>
              <a:gd name="adj2" fmla="val 104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-Ext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3680" y="25909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2666880"/>
            <a:ext cx="762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743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5248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3428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410080"/>
            <a:ext cx="1189080" cy="685800"/>
          </a:xfrm>
          <a:prstGeom prst="wedgeRectCallout">
            <a:avLst>
              <a:gd name="adj1" fmla="val -90587"/>
              <a:gd name="adj2" fmla="val 47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ruction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2480" y="3962520"/>
            <a:ext cx="1500480" cy="14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&lt;9:0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 Ext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20920" y="2078640"/>
            <a:ext cx="2493360" cy="893160"/>
            <a:chOff x="3220920" y="2078640"/>
            <a:chExt cx="2493360" cy="893160"/>
          </a:xfrm>
        </p:grpSpPr>
        <p:sp>
          <p:nvSpPr>
            <p:cNvPr id="112" name=""/>
            <p:cNvSpPr/>
            <p:nvPr/>
          </p:nvSpPr>
          <p:spPr>
            <a:xfrm flipH="1">
              <a:off x="3220920" y="2964960"/>
              <a:ext cx="2493360" cy="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465440" y="20786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531240" y="2078640"/>
              <a:ext cx="9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5399640" y="2078640"/>
              <a:ext cx="31068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220920" y="2078640"/>
              <a:ext cx="31068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65760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  01 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8620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3962520"/>
            <a:ext cx="1500120" cy="14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&lt;9: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3962520"/>
            <a:ext cx="1500120" cy="14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&lt;15: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720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95680" y="2971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02920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581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438280" y="3580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29200" y="3581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477120" y="3580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70520" y="23302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95680" y="540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4771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3828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58672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gn Extended Logic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2920" y="12970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13520" y="6035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8:45:55Z</dcterms:created>
  <dc:creator>s802980469</dc:creator>
  <dc:description/>
  <dc:language>en-US</dc:language>
  <cp:lastModifiedBy>Abdiel</cp:lastModifiedBy>
  <dcterms:modified xsi:type="dcterms:W3CDTF">2003-04-11T18:21:57Z</dcterms:modified>
  <cp:revision>7</cp:revision>
  <dc:subject/>
  <dc:title>Slide 1</dc:title>
</cp:coreProperties>
</file>